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728-1DC7-4D66-9553-266E01EE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7D7-C963-406B-A07B-CCD1D6E6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72D-8FD5-4D77-82D0-47B902AD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E26-45B9-4835-8510-05C4EED6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BD92-871C-4359-9037-82EFE6BB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EEF8-BA08-4ED3-9876-FDE12D5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20BD-6062-48C6-B661-A962AE6B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6427-DE09-4BF8-876A-86E79467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7F0E-D6D0-4552-ABFB-8F9A3941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0D8F-5CAC-432E-A63C-6B4891F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68B1-6C9C-4A1C-A547-3F56E590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1B3-2E00-4362-AA79-829BA3BF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8503-DC8F-4CB3-8B8D-25EEA2F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787-08A6-44CE-941D-52D7E99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F07-5A31-4013-9DBC-8571900D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55BC-999D-4844-BFAB-CE227F1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4079-7973-40AA-AF7A-9567A68E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558-688E-4890-A4E3-FCFC3F58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E30-2D39-42D7-AA34-D7FBD39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8F4-2ACB-48BB-A97B-63D9309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9E9-4D13-4AD9-9D81-18F59EE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6B9-7706-4A77-91CF-F51140A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397-D0D4-42CD-B573-CDA739C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170-0C76-4AD9-8EE1-83ACBC0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A0A-FE81-404E-BDB9-7D3FEF00B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792-078B-4876-B1C9-96C7E308C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High Schools &amp; the Future of High School Diplo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5812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arrie Allda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rica Burns, Betsy Kisling, Stacy Meldrum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r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1160" y="0"/>
          <a:ext cx="86184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0"/>
                    <a:ext cx="86184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24800" y="3200400"/>
            <a:ext cx="2419200" cy="3657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-609480"/>
          <a:ext cx="838188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-609480"/>
                    <a:ext cx="83818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33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 of Labor Statistics</a:t>
            </a:r>
            <a:r>
              <a:rPr b="1" lang="en-US" sz="4400" spc="-1" strike="noStrike">
                <a:solidFill>
                  <a:srgbClr val="000d6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: Data are 2007 annual averages for persons age 25 and over. Earnings are for full-time wage and salary workers. UPDATED APRIL 2008</a:t>
            </a:r>
            <a:br>
              <a:rPr sz="1300"/>
            </a:b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ls.gov/emp/emptab7.ht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er focus on individual learner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kills for a competitive job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Education-Beyond the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dienc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Questions ?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mments !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rn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Co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: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" y="1170000"/>
            <a:ext cx="822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7360" y="109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1430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5280" y="107316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38080"/>
            <a:ext cx="8534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ttp://www.palmbeachpost.com/search/content/local_news/epaper/2008/09/28/a1a_virtual_school_09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lahoma Public Opinion 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Vision Phone Survey: April 25-27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 Oklahoma Registered Vo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election using All Active Are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% Female, 49% Male, 78% with K-12 child/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% Democrats, 40% Republicans, 13%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White and 75% w/Family Income +$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 of Error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percenta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Sponsors:  Friedman Foundation &amp;  Oklahoma Counci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onsors include:  The Department of Catholic Education-Archdiocese of Oklahoma City, Americans for Prosperity-Oklahoma, American Legislative Exchange Council, Black Alliance for Educational Options, Center for Education Reform, Connections Academy, Hispanic Council for Reform and Educational Options, and the National Catholic Educational Associ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ed on October 10, 2008:  http://www.hcreo.org/files/1097_files_Friedman_OK_Survey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7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7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lahomans’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33720" y="-533520"/>
          <a:ext cx="60958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533520"/>
                    <a:ext cx="60958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09480" y="3200400"/>
          <a:ext cx="83822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83822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85880" cy="2362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3429000"/>
          <a:ext cx="81486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8148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-304920"/>
          <a:ext cx="75060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-304920"/>
                    <a:ext cx="75060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4114800"/>
          <a:ext cx="83059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14800"/>
                    <a:ext cx="83059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14480" y="0"/>
          <a:ext cx="715176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0"/>
                    <a:ext cx="715176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5:21Z</dcterms:created>
  <dc:creator>Erica Burns</dc:creator>
  <dc:description/>
  <dc:language>en-US</dc:language>
  <cp:lastModifiedBy>Erica Burns</cp:lastModifiedBy>
  <dcterms:modified xsi:type="dcterms:W3CDTF">2008-10-12T23:29:29Z</dcterms:modified>
  <cp:revision>40</cp:revision>
  <dc:subject/>
  <dc:title>Online High Schools &amp; the Future of High School Diplomas</dc:title>
</cp:coreProperties>
</file>