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ct" ContentType="image/x-pict"/>
  <Override PartName="/ppt/media/image2.pct" ContentType="image/x-pict"/>
  <Override PartName="/ppt/media/image3.jpeg" ContentType="image/jpeg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8.pct" ContentType="image/x-pict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F8B3-4EB7-40A1-AEC8-131F9ED13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2E12-A665-4150-A128-72DBB08F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D380-7A7E-4B91-ADD2-C61CC8F52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54AF-4B1F-435C-8992-FEEE118A3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0338-4E05-44BF-83B7-F01141B5A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A042-69BD-4F12-98C7-23D5B382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C714-C313-4000-B154-64EC9CE4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2331-159A-4D85-AD8B-20B76895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EC14-6FC8-4037-A7CB-BA89018F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DFD0-3AA9-4043-A6D9-2484DE63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3FE7A-9481-4F99-922E-3288D056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C744-B9A1-454F-BFB5-E81C1F67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1D53-0161-4C10-BCAB-32B7F21D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C2BB-00C3-4FCA-87DC-4F7FC14A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644E-D0E0-46E1-8455-6DEDD7F8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0650-4F6C-4674-960A-9B177B542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4CF8-60AF-4C38-B63C-D8BA55AEE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E151-6B79-43EB-B556-2DA6829D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EAD8-DD51-4C5A-AFB4-18B49B54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417A-5501-45EF-9F5B-6CE685DF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2B20-49C7-413D-B116-096F8200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663E-0168-4C14-90FE-E92624E2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9655-0A54-4863-8A81-692F1801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2C0D-2A1C-4B0E-80EB-60D4EEE4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9F5F-E8F2-48AE-8572-C0ADBC765F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F7D7-0B5C-4661-961E-15F8663BEE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ct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ct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ct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1536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High Schools &amp; the Future of High School Diplo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3581280"/>
            <a:ext cx="80773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arrie Allday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Erica Burns, Betsy Kisling, Stacy Meldrum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ndre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281160" y="0"/>
          <a:ext cx="8618400" cy="32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160" y="0"/>
                    <a:ext cx="8618400" cy="32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724800" y="3200400"/>
            <a:ext cx="2419200" cy="365760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457200" y="-609480"/>
          <a:ext cx="8381880" cy="31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-609480"/>
                    <a:ext cx="8381880" cy="31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52280" y="2514600"/>
            <a:ext cx="3333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klahoma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t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eau of Labor Statistics</a:t>
            </a:r>
            <a:r>
              <a:rPr b="1" lang="en-US" sz="4400" spc="-1" strike="noStrike">
                <a:solidFill>
                  <a:srgbClr val="000d63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ote: Data are 2007 annual averages for persons age 25 and over. Earnings are for full-time wage and salary workers. UPDATED APRIL 2008</a:t>
            </a:r>
            <a:br>
              <a:rPr sz="1300"/>
            </a:br>
            <a:br>
              <a:rPr sz="13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bls.gov/emp/emptab7.htm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83944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Forec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er focus on individual learner’s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skills for a competitive job mar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ized Education-Beyond the Ba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udience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Questions ?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omments !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oncerns 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onal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: Minneso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: Flor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t Coas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st Coas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west: Oklah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lor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19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6400" y="1170000"/>
            <a:ext cx="822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57360" y="1098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1600" y="114300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65280" y="1073160"/>
            <a:ext cx="529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838080"/>
            <a:ext cx="853452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http://www.palmbeachpost.com/search/content/local_news/epaper/2008/09/28/a1a_virtual_school_0929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klahoma Public Opinion Po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Vision Phone Survey: April 25-27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200 Oklahoma Registered Vo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Selection using All Active Area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1% Female, 49% Male, 78% with K-12 child/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7% Democrats, 40% Republicans, 13%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7% White and 75% w/Family Income +$5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gin of Error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 percentag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l Sponsors:  Friedman Foundation &amp;  Oklahoma Council of Public Aff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Sponsors include:  The Department of Catholic Education-Archdiocese of Oklahoma City, Americans for Prosperity-Oklahoma, American Legislative Exchange Council, Black Alliance for Educational Options, Center for Education Reform, Connections Academy, Hispanic Council for Reform and Educational Options, and the National Catholic Educational Associ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ed on October 10, 2008:  http://www.hcreo.org/files/1097_files_Friedman_OK_Survey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7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7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7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9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7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7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7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8000"/>
                            </p:stCondLst>
                            <p:childTnLst>
                              <p:par>
                                <p:cTn id="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30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7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1000"/>
                            </p:stCondLst>
                            <p:childTnLst>
                              <p:par>
                                <p:cTn id="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30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7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4000"/>
                            </p:stCondLst>
                            <p:childTnLst>
                              <p:par>
                                <p:cTn id="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7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7000"/>
                            </p:stCondLst>
                            <p:childTnLst>
                              <p:par>
                                <p:cTn id="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300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7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klahomans’ Respon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2133720" y="-533520"/>
          <a:ext cx="609588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-533520"/>
                    <a:ext cx="609588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609480" y="3200400"/>
          <a:ext cx="8382240" cy="261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200400"/>
                    <a:ext cx="8382240" cy="26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685880" cy="2362320"/>
          </a:xfrm>
          <a:prstGeom prst="rect">
            <a:avLst/>
          </a:prstGeom>
          <a:ln w="9360">
            <a:solidFill>
              <a:srgbClr val="33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685800" y="3429000"/>
          <a:ext cx="81486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429000"/>
                    <a:ext cx="81486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838080" y="-304920"/>
          <a:ext cx="7506000" cy="320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-304920"/>
                    <a:ext cx="7506000" cy="32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457200" y="4114800"/>
          <a:ext cx="830592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114800"/>
                    <a:ext cx="830592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1014480" y="0"/>
          <a:ext cx="7151760" cy="320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4480" y="0"/>
                    <a:ext cx="7151760" cy="32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1T14:35:21Z</dcterms:created>
  <dc:creator>Erica Burns</dc:creator>
  <dc:description/>
  <dc:language>en-US</dc:language>
  <cp:lastModifiedBy>Erica Burns</cp:lastModifiedBy>
  <dcterms:modified xsi:type="dcterms:W3CDTF">2008-10-12T23:29:29Z</dcterms:modified>
  <cp:revision>40</cp:revision>
  <dc:subject/>
  <dc:title>Online High Schools &amp; the Future of High School Diplomas</dc:title>
</cp:coreProperties>
</file>