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E72D-0BDF-4D19-AC0C-C36732AA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BDB-B47E-48AD-94D3-EAA1AF18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EFD-7EB1-4038-B396-4183C3AD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F48-322F-448B-9BB8-60F22B461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395F-B58B-401B-80A7-5413A093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9CB-BDFD-4248-9A0A-ECDAFD1E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840-02C5-4DA0-92D3-A276625E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76212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year in 2001 identified 9 instructor roles!  Content facilitator, technologist, designer, manager/administrator, process facilitator, advisor/counselor, assessor,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approach to onlin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selors, enrollment process, ori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al desig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ject matter exp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assistants (assistance), tech, bookst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us Technology, October 2008 “Just-in-Time Support identifies 8 best practices for providing support to online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e the basics – provide orientation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oaded Course Templ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sure faculty aren’t first responders for non-content related ques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st-in-Time Support  in development st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ntoring from experienced online instr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through pedagogy behind the technology tools-wikis, blogs, (why, how, wh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the above systems support (instructional tea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 a COP for facu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OUT CHALLENGE AREAS – discussion point – what do you see as challenge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Quality Indicators of Distance Education Identified in the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sults of a systematic literature review of 160 articles and twelve boo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1(3), p. 145-16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dition, a study completed by the NEA and Blackboard Inc., (Institute for Higher Education Policy study commissioned by NEA and Blackboard) released in 2000, found 24 quality benchmarks for success in internet-based distance education.  Shimp, in an unpublished dissertation completed in December 2007, reviewed 278 articles published in 4 journals from 2000-2006 and found the same benchmarks and 2 additional benchma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orientation to distance education courses 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 interaction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of Rubric Chico State Rubri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Learner Support &amp;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Online Organization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structional Design/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valuation of Student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novative Teaching w/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Use of Student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so an Instructional Design Tips for Online Learning developed by Joan Van Duzer, Humboldt State University) in conjunction with the Chico State Rub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what point will this no longer just be an alterna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FB2-0C41-4391-AD65-0F804D06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58C-6E06-459D-9E40-D1A99C7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F87-8B9D-41DD-ADE0-1DD41E7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B90-3F2C-46EF-9255-A37735CD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7D7-8B39-47D9-823B-91270D47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3C43-4435-4615-9240-E860446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AA7A-7BCE-48B2-AD07-57315E9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4E53-C303-4D53-907C-5B17EDCC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ED9-9DFF-4E15-ACD5-012A094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226-23C3-4A74-8174-E6CEB7E7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6CDE-FBDA-45C9-B521-3834FC0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1A9-8820-4D40-B70B-85AA645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9A42-2111-4778-B5F0-4833EBC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F0D-830B-40FD-925D-9A0ECD4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088-3E72-47F8-A0CB-0D09DD6B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6C9-E57D-48AB-B8AE-E898FECE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A99-BC59-494D-85C3-95BEB25A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DDF6-3103-4F17-A8B1-E08F6339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4D02-2EAF-417A-8183-262F216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1513-2853-4F28-968D-2C3562D4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281B-5338-4151-A7A4-CC5BB885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323E-CB77-4ADC-9149-6DC7DB0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A4E-C175-4B15-BAED-A25003F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3829-839C-4C24-A7C0-5322977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DB64-B25D-43B8-AB30-962EB4C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31C6-63B6-43F4-8169-3B88DD2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AD99-B1EB-41C1-81BA-EC65E97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4A69-5560-4110-B095-0E0BAA1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F5D0-E376-4377-BFAB-B861AEF6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8ED8-1E43-4A99-8BE1-DE53E492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EA37-656D-49D6-A241-86DB6F93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F1BC-5D50-4454-B3AE-9662BB13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C3FC-4B03-426C-9CD7-080E6B87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740-049A-479B-8608-D6BF23C4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75E9-0567-4285-B0CF-31E5D47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2805-D603-430D-86BA-9771FAB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E24B-65A9-4744-88BC-078957B6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7AAC-4A1C-4C03-8D9D-83DEEF3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5222-8AEC-47CB-BD63-D5C397D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EB0B-A0F8-4D1F-BC2D-8FF3174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DEA9-F779-46DD-9733-9D11356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CB5E-4B47-4398-A74C-E5C5513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1FB6E-651D-430D-B05C-FAEDDA98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FF84-2875-4275-98CB-66A97EDF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37E-C67D-40A2-8238-3D11414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433F5-D459-43F1-A234-632BDB8B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4C1B-F438-4703-B79E-7DDE5F0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BBA4-A410-410C-BA00-C84F9EA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9403-23FB-4681-8F82-C3D870C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D4B4-5607-48BE-88A5-9B8FC01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107A-500D-4544-9038-86162EFF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A10A-72BE-48B7-BB67-14A7022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D573B-F6E2-413D-9B21-4CE0797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0554-1261-406F-96AE-971D980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6372-3401-49B0-9F65-03D4465C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DF0-2D84-4F2C-B9FA-02DFF4A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9171-5C67-44EB-A769-8402A028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856B-B9FB-4FA2-843E-0404C6BF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D40E-9F4D-4964-AEF2-76DD5BE8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7391-258E-4BB8-8108-CADDA4C2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7C91-C541-4924-A683-B75CFCE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029F7-63E0-4D28-B312-D3003EF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F9B9D-913F-49C4-B56C-4FBAA62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7584-03A7-4F24-B5BE-D838B2A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4ED6-2EB9-4130-890D-922CD0D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74622-2792-45D1-B188-D3FCF16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2BD-D357-4AFC-B61E-77CCAFF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C61E-EC27-4418-BC1F-F5CE1373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DEE6-5A54-46AB-9DE0-9B44F526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3981-7597-40E1-888E-D67EF8A6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B6B-A3EB-4618-8963-7C1BB13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E67-C04A-4104-B927-E41BE03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50D9-69A0-421D-BEF0-A3322063C1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53CF-F197-40D7-86F4-CB41CF12E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buClr>
                <a:srgbClr val="0000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AF96-AEF4-450F-8A73-8754915CFE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084-F7B3-43F9-AB91-424505C0C8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F738-3BE8-471C-BAA7-0D8F31850C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C5E1-EE06-4D17-B1B6-E21381AA11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utlertech.org/btol/" TargetMode="External"/><Relationship Id="rId2" Type="http://schemas.openxmlformats.org/officeDocument/2006/relationships/hyperlink" Target="http://www.butlertech.org/btol/" TargetMode="External"/><Relationship Id="rId3" Type="http://schemas.openxmlformats.org/officeDocument/2006/relationships/hyperlink" Target="http://www.butlertech.org/bto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slide1.xml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stancelearn.about.com/od/virtualhighschools/a/OnlneHighQ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66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of University Affiliated Online 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anford’s gifted-student progra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$13,000 per year.  Courses range from $495 to $740 each w/additional $50 for materials &amp; shipping per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schls that charge &lt; $150 per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University of Oklahoma High School costs $1,725 per year ($180 per course) in addition to several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Program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ch Program will pay for part tim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spend ½ day in tech cent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&amp; tech center pays for supplemental academic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Eric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Tr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lahomans’ Opin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lorid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ost wide-ranging virtual mandate in the 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tate law requires districts to create full-time virtual schools K-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chigan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Recent requirement that ALL graduates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ave an online learning experienc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Other state-wide = Illinois &amp; Ida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innesot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ull-time virtual K-12, launch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lementary = 20% online + plastic tubs of materials @ home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ashington State &amp; Massachusetts: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ploring idea of increas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-led initiatives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to state-wid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palmbeachpost.com/search/content/local_news/epaper/2008/09/28/a1a_virtual_school_092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http://www.sbe.wa.gov/documents/OnlineLearningMemo051408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% White &amp;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&amp; Educational Options, &amp;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7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7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7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7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7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7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ns Resp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09680" y="-685800"/>
          <a:ext cx="609624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-685800"/>
                    <a:ext cx="609624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0" y="2590920"/>
          <a:ext cx="7010280" cy="21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90920"/>
                    <a:ext cx="701028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graphicFrame>
        <p:nvGraphicFramePr>
          <p:cNvPr id="286" name=""/>
          <p:cNvGraphicFramePr/>
          <p:nvPr/>
        </p:nvGraphicFramePr>
        <p:xfrm>
          <a:off x="3505320" y="4451400"/>
          <a:ext cx="5638680" cy="2406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51400"/>
                    <a:ext cx="5638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676520" y="3048120"/>
          <a:ext cx="746748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746748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52280" y="-533520"/>
          <a:ext cx="7720200" cy="32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-533520"/>
                    <a:ext cx="772020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-13680" y="6143760"/>
            <a:ext cx="59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*Published in April 2007 by the National Center for Education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3520" y="4114800"/>
          <a:ext cx="8229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14800"/>
                    <a:ext cx="8229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14480" y="-142920"/>
          <a:ext cx="7151760" cy="34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-142920"/>
                    <a:ext cx="715176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0492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321600" y="2590920"/>
            <a:ext cx="2822400" cy="42670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 respondents are open to Virtual Schools even though 59% stated they had “not that familiar with” or had “never heard of” virtual, cyber, or online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1% are not satisfied with the current public school system.  The figure raises to 51% when excluding the “undecided”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 is lagging in online education possib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900 OK Students </a:t>
            </a:r>
            <a:r>
              <a:rPr b="0" i="1" lang="en-US" sz="2800" spc="-1" strike="noStrike">
                <a:solidFill>
                  <a:srgbClr val="ffff66"/>
                </a:solidFill>
                <a:latin typeface="Baskerville Old Face"/>
              </a:rPr>
              <a:t>VS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50,000 Florida Virtual Academy Students completing 90,000 courses in 2007/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rcRect l="0" t="22642" r="6249" b="511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ler Tech Online - Hamil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a variety of options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ll-time, part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ffers in conjunction with Academi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tlertech.org/bto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klahoma Virtual High Schools – Oklahom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of the first online high schools in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wned by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urriculum delivered in a variety of ways online (lecture, videos, Power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tudents have a quick feeling of “success” because of frequen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rcRect l="0" t="22642" r="6249" b="2965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ri-County Tech Center – Bartlesville,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Learning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ffers online learning through Advanced Aca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tilized when students can’t fit an academic course in their schedule when enrolled at Tri-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e lab available to suppor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ee to student if they complete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 Sans MS"/>
              </a:rPr>
              <a:t>And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R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, Inc., a subsidiary of DeVry Inc. (NYSE: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e office in OKC (Bricktow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Arial"/>
                <a:ea typeface="Osaka"/>
              </a:rPr>
              <a:t>(Revenue) </a:t>
            </a:r>
            <a:r>
              <a:rPr b="0" i="1" lang="en-US" sz="1600" spc="-1" strike="noStrike">
                <a:solidFill>
                  <a:srgbClr val="ffff66"/>
                </a:solidFill>
                <a:latin typeface="Arial"/>
                <a:ea typeface="Osaka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4,500 per-stud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Osaka"/>
              </a:rPr>
              <a:t>(averag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Osaka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ationally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courses 88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in courses 74% (6,5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active 62% (5,5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klahoma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(week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tudents 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enrolled courses 2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that are active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active courses on track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enrolled courses completed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A 2.00 (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IEP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EOI (End of Instruction) s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ine high school diploma will be the same as traditiona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take year book picture, attend prom, walk at graduation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ts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ult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nline instructor’s role requires a paradigm shift in perception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instructional time &amp; space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Baskerville Old Face"/>
              </a:rPr>
              <a:t>virtual management technique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ways of engaging students through virtual communica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Easton, 200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ystem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st-in-Ti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ance Edu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Based on results of a systematic literature review of 160 articles and twelve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839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udent-teache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mpt feedback from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gram evalua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ear analysis of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ocumented technology plan to ensu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stitutional support &amp; institu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urse structur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3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4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5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6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rr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3110040"/>
            <a:ext cx="7772400" cy="29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Education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learn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pect diverse way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aculty 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trong rationale for distance education that correlates to the mission of the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tools an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iability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lementation of guidelines for course development and review of instructional material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haney 2006) as quoted in Chaney, B.H., et al. (2007). Development of an instrument to assess student opinions of the quality of distance education courses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American Journal of Distance Educ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21(3), p. 145-1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2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3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4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5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6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507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ssess with a 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lifornia State University, Chic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 User’s Guide to Online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ww.nea.org/technology/distanced/high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to Choose an Online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andout retrie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stancelearn.about.com/od/virtualhighschools/a/OnlneHighQ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the bottom 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 has more to do with whether this is a good way for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) student to learn. To me, I look at online learning not as something that’s going to be the savior of education,” she said. “This is one alternativ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ngela Specketer, Principal of Minnesota Virtual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full-time virtual started in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ture 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see as the challe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698480"/>
            <a:ext cx="89917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Meeting individual learner’s need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verse learning styles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EPs – truly customer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tive participation, engagement,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ropriate use of tools, technologies, method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klahoma edu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ition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ational Trends &amp; Oklahoma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line Learning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uccess Rates &amp;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acul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utur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onclu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line Learning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It is Here to St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42670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t Over Yourself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15835" t="0" r="8163" b="14006"/>
          <a:stretch/>
        </p:blipFill>
        <p:spPr>
          <a:xfrm>
            <a:off x="1600200" y="3200400"/>
            <a:ext cx="2347920" cy="327672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06" name=""/>
          <p:cNvSpPr/>
          <p:nvPr/>
        </p:nvSpPr>
        <p:spPr>
          <a:xfrm>
            <a:off x="304920" y="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1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1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udience Respon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3044520"/>
            <a:ext cx="4572000" cy="20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ents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5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25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5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25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5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Online High Sch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ublic or private schools that allow students to work with their curriculum &amp; teachers using the Internet, rather than in a traditional classroom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ption for students wh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tay home for health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sire to work at their own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nd themselves unable to concentrate on their work in the tradi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eed to schedule their learning around a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ypes of Online High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1- Public/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-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3- University Affil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ublic Online HS in 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rrently OK has 900 studen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#s continue to increase based on how many students the 6 partnering schls will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ee for full time students (6 courses/seme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rt Time Students pay $400 per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nerally provide curriculum &amp; other materials at no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ome offer computer leases &amp; pay for student internet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of Private Online 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 Private online in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nd to b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possible to find non-profit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me are as much as $16,000 for a 4-year diploma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ossible to find low-cost altern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like Penn Foster complete diplo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rox. $1,2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Betsy</cp:lastModifiedBy>
  <dcterms:modified xsi:type="dcterms:W3CDTF">2008-10-22T18:05:25Z</dcterms:modified>
  <cp:revision>107</cp:revision>
  <dc:subject/>
  <dc:title>Online High Schools &amp; the Future of High School Diplomas</dc:title>
</cp:coreProperties>
</file>