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3.xml.rels" ContentType="application/vnd.openxmlformats-package.relationships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3.jpeg" ContentType="image/jpeg"/>
  <Override PartName="/ppt/media/image11.wmf" ContentType="image/x-wmf"/>
  <Override PartName="/ppt/media/image9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21.jpeg" ContentType="image/jpeg"/>
  <Override PartName="/ppt/media/image16.png" ContentType="image/png"/>
  <Override PartName="/ppt/media/image20.wmf" ContentType="image/x-wmf"/>
  <Override PartName="/ppt/media/image19.wmf" ContentType="image/x-wmf"/>
  <Override PartName="/ppt/media/image18.png" ContentType="image/png"/>
  <Override PartName="/ppt/media/image17.png" ContentType="image/png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6.jpeg" ContentType="image/jpeg"/>
  <Override PartName="/ppt/media/image5.wmf" ContentType="image/x-wmf"/>
  <Override PartName="/ppt/media/image10.png" ContentType="image/png"/>
  <Override PartName="/ppt/media/image2.jpeg" ContentType="image/jpeg"/>
  <Override PartName="/ppt/media/image3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  <p:sldId id="291" r:id="rId44"/>
    <p:sldId id="292" r:id="rId45"/>
    <p:sldId id="293" r:id="rId46"/>
    <p:sldId id="294" r:id="rId47"/>
    <p:sldId id="295" r:id="rId48"/>
    <p:sldId id="296" r:id="rId49"/>
    <p:sldId id="297" r:id="rId50"/>
    <p:sldId id="298" r:id="rId51"/>
    <p:sldId id="299" r:id="rId52"/>
    <p:sldId id="300" r:id="rId53"/>
    <p:sldId id="301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slide" Target="slides/slide36.xml"/><Relationship Id="rId45" Type="http://schemas.openxmlformats.org/officeDocument/2006/relationships/slide" Target="slides/slide37.xml"/><Relationship Id="rId46" Type="http://schemas.openxmlformats.org/officeDocument/2006/relationships/slide" Target="slides/slide38.xml"/><Relationship Id="rId47" Type="http://schemas.openxmlformats.org/officeDocument/2006/relationships/slide" Target="slides/slide39.xml"/><Relationship Id="rId48" Type="http://schemas.openxmlformats.org/officeDocument/2006/relationships/slide" Target="slides/slide40.xml"/><Relationship Id="rId49" Type="http://schemas.openxmlformats.org/officeDocument/2006/relationships/slide" Target="slides/slide41.xml"/><Relationship Id="rId50" Type="http://schemas.openxmlformats.org/officeDocument/2006/relationships/slide" Target="slides/slide42.xml"/><Relationship Id="rId51" Type="http://schemas.openxmlformats.org/officeDocument/2006/relationships/slide" Target="slides/slide43.xml"/><Relationship Id="rId52" Type="http://schemas.openxmlformats.org/officeDocument/2006/relationships/slide" Target="slides/slide44.xml"/><Relationship Id="rId53" Type="http://schemas.openxmlformats.org/officeDocument/2006/relationships/slide" Target="slides/slide45.xml"/><Relationship Id="rId54" Type="http://schemas.openxmlformats.org/officeDocument/2006/relationships/slide" Target="slides/slide46.xml"/><Relationship Id="rId5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dt" idx="19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 type="ftr" idx="20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 type="sldNum" idx="21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9BBE4-E9EA-47DE-B4BD-EE0AB6E40B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1FF7A-D836-43C1-9227-0AE18264BE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569E4-5634-47C3-9978-26F03A90B8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6DB77-4DB6-4CB8-AD46-A7E00A233A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4A1A3-1C3E-4B67-9DDA-8E442326F0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3B567-81CD-4CDC-85B8-C02C4AFA32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08D06-3BFA-4981-9957-B6332EE0C1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762120" y="60948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49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oodyear in 2001 identified 9 instructor roles!  Content facilitator, technologist, designer, manager/administrator, process facilitator, advisor/counselor, assessor, research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ystems approach to online learn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unselors, enrollment process, orient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tructional design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ubject matter exper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nline assistants (assistance), tech, bookstore,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ach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mpus Technology, October 2008 “Just-in-Time Support identifies 8 best practices for providing support to online facul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titutionalize the basics – provide orientation &amp; FAQ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loaded Course Templa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ke sure faculty aren’t first responders for non-content related ques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ust-in-Time Support  in development st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ntoring from experienced online instructor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ink through pedagogy behind the technology tools-wikis, blogs, (why, how, when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velop the above systems support (instructional team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egin a COP for facul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OINT OUT CHALLENGE AREAS – discussion point – what do you see as challenge ar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on Quality Indicators of Distance Education Identified in the Liter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results of a systematic literature review of 160 articles and twelve book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Chaney 2006) as quoted in Chaney, B.H., et al. (2007). Development of an instrument to assess student opinions of the quality of distance education courses.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he American Journal of Distance Educa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21(3), p. 145-164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addition, a study completed by the NEA and Blackboard Inc., (Institute for Higher Education Policy study commissioned by NEA and Blackboard) released in 2000, found 24 quality benchmarks for success in internet-based distance education.  Shimp, in an unpublished dissertation completed in December 2007, reviewed 278 articles published in 4 journals from 2000-2006 and found the same benchmarks and 2 additional benchmark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-orientation to distance education courses or pro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rner interaction with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eas of Rubric Chico State Rubric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 Learner Support &amp; Resour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 Online Organization and Desig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 Instructional Design/Deliv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 Evaluation of Student Lear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. Innovative Teaching w/Technolo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. Use of Student Feedb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also an Instructional Design Tips for Online Learning developed by Joan Van Duzer, Humboldt State University) in conjunction with the Chico State Rub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 what point will this no longer just be an alternativ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16496-ABFA-4CA8-86BF-29C1A8A7D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80465-4CA4-4A78-B039-3C00B08E4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20923-01DE-4835-A979-247CF9D01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63D00-4AAA-4DD9-A6B3-DE034348D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8597B-3A1A-4FBA-81BA-F4ECB6D76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B744D-A57D-4100-B8B3-A305C8FD3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8E2CB-EA13-42C1-AECE-4D7CB0533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61B1C-D0B5-443E-AF98-B7E64C35B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9D997-8CAD-43E7-B3F4-2A550FE43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E5DD2-F314-489E-B057-4183E563C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C118A-1749-4599-B32E-7F45E095E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CCB88-719A-4435-8831-58D3C0DB3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F7B95-5AAE-4195-8C44-A590BC5A9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666B8-7AE5-47DE-AD0E-9DBF9C5F8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B0AD6-3F43-4BB2-91AC-86C986FD4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BA152-6750-4438-B665-5CD24F400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E043E-0C2D-4CDE-B63B-65658CCB7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9E89D8-CE6F-41F9-B755-60C33193F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B8075D-C6A4-4ACE-B3A5-F12C2F881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7069C7-B137-4B28-9F6D-4EAD4A19C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ED1EFD-222B-442E-B260-E317DEF06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A97ECD-0D3F-46D1-B064-5FA460817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1863C-31C1-48C3-89B4-9F7181CD0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ED8851-CB51-4D2A-8FB8-AE7F6429D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DC456A-D834-430C-9C4A-7E4109C07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13C163-A153-4A5D-BDC7-53F0CBC5A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EC6A3B-2F19-441D-A8D9-D068FDA56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53D6D9-FD64-4261-90D1-5B71EBB83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28EC1B-C10B-4559-9A2B-2804D9020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71807C-7674-49E2-8D52-11DD6A2CD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B965EA-E44D-4371-984B-89084B87F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F5265C-CB8C-4BDC-8459-0FF4B528E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7001C8-9AD3-4FC5-B296-B1F1C8F37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71DE2-76A8-4627-B43A-E0E352A2F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F14D0D-32FC-4674-A4CB-74BD929E7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C5DB4D-1D5D-424C-951F-83A7773FE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A7E2B8-EAEF-42EF-82AE-5B6278EC2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140391-A165-4364-ACA1-A00042C71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2BFB20-9B78-4E58-8A94-8DCC29665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E818F5-4DF8-4884-B1E1-85ED0FFF5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3CB96F-4C25-4AA4-B7A7-F799CA72A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A7FBE3-13E6-4D65-82F4-2030B8648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13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94144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685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13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94144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237252-AD83-4476-8252-371627374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B7CAE4-BEF7-4C78-878B-4AB0409A4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AE701-6BAC-4152-AAC2-36B7D18BD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72A694-E192-47E7-A3C7-412EF9E3B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3AC055-BDA5-4C9F-844B-CC5C18937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EA1523-654C-474C-AF54-9A2248C5A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ECEDCE-7A6B-4468-8491-16BA89847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7B3988-C832-40DC-88C6-EADE99CE2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E3DDEC-ADF0-4367-92A6-F94BC5C12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9991E2-6765-47D9-9E5A-B499E83F7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C42313-B4DF-4589-839C-9C72D18DA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DE9B3B-536C-4BAB-8D45-DCEC03866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1D1D7E-1C0F-4234-8CF1-3326C1C92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35F3C-FD72-46E8-9C95-C26DB2B41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313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94144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685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313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594144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1A428E-B126-4D37-89CE-93E14F0FC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8CCDFB-63FE-48F3-BA8C-4C5EAA56A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E118F1-9610-43FA-901F-13342B421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4BD586-82AA-47C9-83B7-0926AAF7C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382A42-BEDA-46F3-A53C-4C617E767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AF4EBD-B58A-437F-93D0-C101948AF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B691E0-B4AF-4221-BC42-59E3DA708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688C0B-9614-4CEF-BC52-DA0BAE99B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C3432E-7429-4186-92D3-F4ADFDC64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959DC6-041C-4372-8B67-441133E7E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85066-191B-403A-AF29-404C5C370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893D59-93BB-4C3F-9919-D5F434601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B4E688-6E7A-4E30-B83B-B577E1E9D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313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594144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685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313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594144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6C0906-EAAF-40E5-AFA8-784239AE7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0A561-CDB9-43A8-9C2D-C23BF40EE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39A75-EA35-440E-861D-E3ED0F86C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4BF56-8F68-4B66-AAB3-CBFA0D40444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A8E40-BD6D-44BD-9F58-E2A11B5C5FF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buClr>
                <a:srgbClr val="66cc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584000" indent="-226080">
              <a:buClr>
                <a:srgbClr val="80ff00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36520" indent="-226080">
              <a:buClr>
                <a:srgbClr val="ffcc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36520" indent="-226080">
              <a:buClr>
                <a:srgbClr val="000000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36520" indent="-226080">
              <a:buClr>
                <a:srgbClr val="000000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77720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84E7B-2CD9-42CB-947F-E1DBD56B382A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10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ftr" idx="11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sldNum" idx="12"/>
          </p:nvPr>
        </p:nvSpPr>
        <p:spPr>
          <a:xfrm>
            <a:off x="77720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8ADB3-41B9-4770-9E07-DDBB61D7C9ED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309CB-E346-4DD1-9CF5-CDCCA9D95F5C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809880" y="1066680"/>
            <a:ext cx="4648320" cy="236232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118D9-9AD0-46A9-AE11-0938CB28F688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image" Target="../media/image6.jpeg"/><Relationship Id="rId6" Type="http://schemas.openxmlformats.org/officeDocument/2006/relationships/oleObject" Target="../embeddings/oleObject3.bin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butlertech.org/btol/" TargetMode="External"/><Relationship Id="rId2" Type="http://schemas.openxmlformats.org/officeDocument/2006/relationships/hyperlink" Target="http://www.butlertech.org/btol/" TargetMode="External"/><Relationship Id="rId3" Type="http://schemas.openxmlformats.org/officeDocument/2006/relationships/hyperlink" Target="http://www.butlertech.org/btol/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19.wmf"/><Relationship Id="rId3" Type="http://schemas.openxmlformats.org/officeDocument/2006/relationships/image" Target="../media/image19.wmf"/><Relationship Id="rId4" Type="http://schemas.openxmlformats.org/officeDocument/2006/relationships/slide" Target=""/><Relationship Id="rId5" Type="http://schemas.openxmlformats.org/officeDocument/2006/relationships/image" Target="../media/image19.wmf"/><Relationship Id="rId6" Type="http://schemas.openxmlformats.org/officeDocument/2006/relationships/slide" Target="slide1.xml"/><Relationship Id="rId7" Type="http://schemas.openxmlformats.org/officeDocument/2006/relationships/image" Target="../media/image20.wmf"/><Relationship Id="rId8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hyperlink" Target="http://distancelearn.about.com/od/virtualhighschools/a/OnlneHighQ.htm" TargetMode="External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5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33520" y="54097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Bureau of Labor Statistics</a:t>
            </a:r>
            <a:r>
              <a:rPr b="1" lang="en-US" sz="4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ffff66"/>
                </a:solidFill>
                <a:latin typeface="Verdana"/>
              </a:rPr>
              <a:t>Note: Data are 2007 annual averages for persons age 25 and over. Earnings are for full-time wage and salary workers. UPDATED APRIL 2008</a:t>
            </a:r>
            <a:br>
              <a:rPr sz="1300"/>
            </a:br>
            <a:br>
              <a:rPr sz="1300"/>
            </a:br>
            <a:r>
              <a:rPr b="0" lang="en-US" sz="1400" spc="-1" strike="noStrike">
                <a:solidFill>
                  <a:srgbClr val="ffff66"/>
                </a:solidFill>
                <a:latin typeface="Arial"/>
              </a:rPr>
              <a:t>http://www.bls.gov/emp/emptab7.htm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152280" y="304920"/>
            <a:ext cx="8839440" cy="491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st of University Affiliated Online H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228600" y="121896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Tend to be expensiv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Stanford’s gifted-student program co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$13,000 per year.  Courses range from $495 to $740 each w/additional $50 for materials &amp; shipping per cour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Possible to find schls that charge &lt; $150 per credi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The University of Oklahoma High School costs $1,725 per year ($180 per course) in addition to several fe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ech Program O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04920" y="198108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Tech Program will pay for part time stu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Students spend ½ day in tech center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&amp; tech center pays for supplemental academic cour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Comic Sans MS"/>
              </a:rPr>
              <a:t>Erica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3110040"/>
            <a:ext cx="7772400" cy="2985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tional Trend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klahomans’ Opinion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National Tre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51920" y="1294920"/>
            <a:ext cx="8991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Florida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askerville Old Face"/>
              </a:rPr>
              <a:t>Most wide-ranging virtual mandate in the n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askerville Old Face"/>
              </a:rPr>
              <a:t>State law requires districts to create full-time virtual schools K-1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Michigan: </a:t>
            </a:r>
            <a:r>
              <a:rPr b="0" lang="en-US" sz="2400" spc="-1" strike="noStrike">
                <a:solidFill>
                  <a:srgbClr val="ffffff"/>
                </a:solidFill>
                <a:latin typeface="Baskerville Old Face"/>
              </a:rPr>
              <a:t>Recent requirement that ALL graduates mus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askerville Old Face"/>
              </a:rPr>
              <a:t>have an online learning experience</a:t>
            </a: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(Other state-wide = Illinois &amp; Idah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Minnesota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askerville Old Face"/>
              </a:rPr>
              <a:t>Full-time virtual K-12, launched in 20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askerville Old Face"/>
              </a:rPr>
              <a:t>Elementary = 20% online + plastic tubs of materials @ home</a:t>
            </a:r>
            <a:r>
              <a:rPr b="0" lang="en-US" sz="2800" spc="-1" strike="noStrike">
                <a:solidFill>
                  <a:srgbClr val="ffffff"/>
                </a:solidFill>
                <a:latin typeface="Baskerville Old Face"/>
              </a:rPr>
              <a:t>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Washington State &amp; Massachusetts: </a:t>
            </a:r>
            <a:r>
              <a:rPr b="0" lang="en-US" sz="2400" spc="-1" strike="noStrike">
                <a:solidFill>
                  <a:srgbClr val="ffffff"/>
                </a:solidFill>
                <a:latin typeface="Baskerville Old Face"/>
              </a:rPr>
              <a:t>exploring idea of increasing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te-led initiatives</a:t>
            </a:r>
            <a:r>
              <a:rPr b="0" lang="en-US" sz="2400" spc="-1" strike="noStrike">
                <a:solidFill>
                  <a:srgbClr val="ffffff"/>
                </a:solidFill>
                <a:latin typeface="Baskerville Old Face"/>
              </a:rPr>
              <a:t> to state-wide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Oklaho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Arial"/>
              </a:rPr>
              <a:t>http://www.palmbeachpost.com/search/content/local_news/epaper/2008/09/28/a1a_virtual_school_0929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Arial"/>
              </a:rPr>
              <a:t>http://www.sbe.wa.gov/documents/OnlineLearningMemo051408.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Arial"/>
              </a:rPr>
              <a:t>Oklahoma Public Opinion Po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3059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rategic Vision Phone Survey: April 25-27, 20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,200 Oklahoma Registered Vo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dom Selection using All Active Area Co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1% Female, 49% Male, 78% with K-12 child/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7% Democrats, 40% Republicans, 13%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7% White &amp; 75% w/Family Income +$50,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rgin of Error: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+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3 percentage po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Poll Sponsors:  Friedman Foundation &amp;  Oklahoma Council of Public Affai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Arial"/>
              </a:rPr>
              <a:t>Other Sponsors include:  The Department of Catholic Education-Archdiocese of Oklahoma City, Americans for Prosperity-Oklahoma, American Legislative Exchange Council, Black Alliance for Educational Options, Center for Education Reform, Connections Academy, Hispanic Council for Reform &amp; Educational Options, &amp; the National Catholic Educational Associ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ccessed on October 10, 2008:  http://www.hcreo.org/files/1097_files_Friedman_OK_Survey.pd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3000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3000" fill="hold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700" fill="hold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3000"/>
                            </p:stCondLst>
                            <p:childTnLst>
                              <p:par>
                                <p:cTn id="3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3000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3000" fill="hold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700" fill="hold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6000"/>
                            </p:stCondLst>
                            <p:childTnLst>
                              <p:par>
                                <p:cTn id="3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3000"/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3000" fill="hold"/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700" fill="hold"/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9000"/>
                            </p:stCondLst>
                            <p:childTnLst>
                              <p:par>
                                <p:cTn id="4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3000"/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3000" fill="hold"/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700" fill="hold"/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2000"/>
                            </p:stCondLst>
                            <p:childTnLst>
                              <p:par>
                                <p:cTn id="5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3000"/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3000" fill="hold"/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700" fill="hold"/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5000"/>
                            </p:stCondLst>
                            <p:childTnLst>
                              <p:par>
                                <p:cTn id="6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3000"/>
                                        <p:tgtEl>
                                          <p:spTgt spid="2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3000" fill="hold"/>
                                        <p:tgtEl>
                                          <p:spTgt spid="2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700" fill="hold"/>
                                        <p:tgtEl>
                                          <p:spTgt spid="2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8000"/>
                            </p:stCondLst>
                            <p:childTnLst>
                              <p:par>
                                <p:cTn id="6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3000"/>
                                        <p:tgtEl>
                                          <p:spTgt spid="2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3000" fill="hold"/>
                                        <p:tgtEl>
                                          <p:spTgt spid="2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700" fill="hold"/>
                                        <p:tgtEl>
                                          <p:spTgt spid="2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1000"/>
                            </p:stCondLst>
                            <p:childTnLst>
                              <p:par>
                                <p:cTn id="7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3000"/>
                                        <p:tgtEl>
                                          <p:spTgt spid="2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3000" fill="hold"/>
                                        <p:tgtEl>
                                          <p:spTgt spid="2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700" fill="hold"/>
                                        <p:tgtEl>
                                          <p:spTgt spid="2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24000"/>
                            </p:stCondLst>
                            <p:childTnLst>
                              <p:par>
                                <p:cTn id="8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3000"/>
                                        <p:tgtEl>
                                          <p:spTgt spid="2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3000" fill="hold"/>
                                        <p:tgtEl>
                                          <p:spTgt spid="2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700" fill="hold"/>
                                        <p:tgtEl>
                                          <p:spTgt spid="2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7000"/>
                            </p:stCondLst>
                            <p:childTnLst>
                              <p:par>
                                <p:cTn id="8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3000"/>
                                        <p:tgtEl>
                                          <p:spTgt spid="2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3000" fill="hold"/>
                                        <p:tgtEl>
                                          <p:spTgt spid="2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700" fill="hold"/>
                                        <p:tgtEl>
                                          <p:spTgt spid="2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Oklahomans Respo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1371600" y="335268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ults Are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50000">
              <a:srgbClr val="004646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1" name=""/>
          <p:cNvGraphicFramePr/>
          <p:nvPr/>
        </p:nvGraphicFramePr>
        <p:xfrm>
          <a:off x="2209680" y="-685800"/>
          <a:ext cx="609624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-685800"/>
                    <a:ext cx="609624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3" name=""/>
          <p:cNvGraphicFramePr/>
          <p:nvPr/>
        </p:nvGraphicFramePr>
        <p:xfrm>
          <a:off x="0" y="2590920"/>
          <a:ext cx="7010280" cy="2184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2590920"/>
                    <a:ext cx="7010280" cy="218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85" name="" descr=""/>
          <p:cNvPicPr/>
          <p:nvPr/>
        </p:nvPicPr>
        <p:blipFill>
          <a:blip r:embed="rId5"/>
          <a:stretch/>
        </p:blipFill>
        <p:spPr>
          <a:xfrm>
            <a:off x="0" y="0"/>
            <a:ext cx="1685880" cy="2362320"/>
          </a:xfrm>
          <a:prstGeom prst="rect">
            <a:avLst/>
          </a:prstGeom>
          <a:ln w="9360">
            <a:solidFill>
              <a:srgbClr val="333300"/>
            </a:solidFill>
            <a:miter/>
          </a:ln>
        </p:spPr>
      </p:pic>
      <p:graphicFrame>
        <p:nvGraphicFramePr>
          <p:cNvPr id="286" name=""/>
          <p:cNvGraphicFramePr/>
          <p:nvPr/>
        </p:nvGraphicFramePr>
        <p:xfrm>
          <a:off x="3505320" y="4451400"/>
          <a:ext cx="5638680" cy="2406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87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505320" y="4451400"/>
                    <a:ext cx="5638680" cy="240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0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5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50000">
              <a:srgbClr val="004646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8" name=""/>
          <p:cNvGraphicFramePr/>
          <p:nvPr/>
        </p:nvGraphicFramePr>
        <p:xfrm>
          <a:off x="1676520" y="3048120"/>
          <a:ext cx="7467480" cy="279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3048120"/>
                    <a:ext cx="7467480" cy="279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0" name=""/>
          <p:cNvGraphicFramePr/>
          <p:nvPr/>
        </p:nvGraphicFramePr>
        <p:xfrm>
          <a:off x="152280" y="-533520"/>
          <a:ext cx="7720200" cy="3299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280" y="-533520"/>
                    <a:ext cx="7720200" cy="329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2" name=""/>
          <p:cNvSpPr/>
          <p:nvPr/>
        </p:nvSpPr>
        <p:spPr>
          <a:xfrm>
            <a:off x="-13680" y="6143760"/>
            <a:ext cx="591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Arial"/>
              </a:rPr>
              <a:t>*Published in April 2007 by the National Center for Educational Statisti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2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2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5000"/>
                            </p:stCondLst>
                            <p:childTnLst>
                              <p:par>
                                <p:cTn id="125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50000">
              <a:srgbClr val="004646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3" name=""/>
          <p:cNvGraphicFramePr/>
          <p:nvPr/>
        </p:nvGraphicFramePr>
        <p:xfrm>
          <a:off x="533520" y="4114800"/>
          <a:ext cx="8229600" cy="23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4114800"/>
                    <a:ext cx="822960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5" name=""/>
          <p:cNvGraphicFramePr/>
          <p:nvPr/>
        </p:nvGraphicFramePr>
        <p:xfrm>
          <a:off x="1014480" y="-142920"/>
          <a:ext cx="7151760" cy="3490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14480" y="-142920"/>
                    <a:ext cx="7151760" cy="34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50000">
              <a:srgbClr val="004646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304920" y="0"/>
          <a:ext cx="8618400" cy="320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0"/>
                    <a:ext cx="8618400" cy="32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99" name="" descr=""/>
          <p:cNvPicPr/>
          <p:nvPr/>
        </p:nvPicPr>
        <p:blipFill>
          <a:blip r:embed="rId3"/>
          <a:stretch/>
        </p:blipFill>
        <p:spPr>
          <a:xfrm>
            <a:off x="6724800" y="3200400"/>
            <a:ext cx="2419200" cy="3657600"/>
          </a:xfrm>
          <a:prstGeom prst="rect">
            <a:avLst/>
          </a:prstGeom>
          <a:ln w="28440">
            <a:solidFill>
              <a:srgbClr val="00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120" y="1371240"/>
            <a:ext cx="815364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nline High Schools &amp; the Future of High School Diplom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456840" y="3581280"/>
            <a:ext cx="807732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Carrie Allday,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Erica Burns, Betsy Kisling, Stacy Meldrum,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Andre Washingt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" dur="80"/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" dur="80"/>
                                        <p:tgtEl>
                                          <p:spTgt spid="2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" dur="80"/>
                                        <p:tgtEl>
                                          <p:spTgt spid="2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0" name=""/>
          <p:cNvGraphicFramePr/>
          <p:nvPr/>
        </p:nvGraphicFramePr>
        <p:xfrm>
          <a:off x="457200" y="-609480"/>
          <a:ext cx="8381880" cy="3176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-609480"/>
                    <a:ext cx="8381880" cy="317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02" name="" descr=""/>
          <p:cNvPicPr/>
          <p:nvPr/>
        </p:nvPicPr>
        <p:blipFill>
          <a:blip r:embed="rId3"/>
          <a:stretch/>
        </p:blipFill>
        <p:spPr>
          <a:xfrm>
            <a:off x="152280" y="2514600"/>
            <a:ext cx="3333960" cy="4343400"/>
          </a:xfrm>
          <a:prstGeom prst="rect">
            <a:avLst/>
          </a:prstGeom>
          <a:ln w="0">
            <a:noFill/>
          </a:ln>
        </p:spPr>
      </p:pic>
      <p:pic>
        <p:nvPicPr>
          <p:cNvPr id="303" name="" descr=""/>
          <p:cNvPicPr/>
          <p:nvPr/>
        </p:nvPicPr>
        <p:blipFill>
          <a:blip r:embed="rId4"/>
          <a:stretch/>
        </p:blipFill>
        <p:spPr>
          <a:xfrm>
            <a:off x="6321600" y="2590920"/>
            <a:ext cx="2822400" cy="4267080"/>
          </a:xfrm>
          <a:prstGeom prst="rect">
            <a:avLst/>
          </a:prstGeom>
          <a:ln w="28440">
            <a:solidFill>
              <a:srgbClr val="00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1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Oklahoma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0% of respondents are open to Virtual Schools even though 59% stated they had “not that familiar with” or had “never heard of” virtual, cyber, or online schoo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1% are not satisfied with the current public school system.  The figure raises to 51% when excluding the “undecided” respon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OK is lagging in online education possibiliti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askerville Old Face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Baskerville Old Face"/>
              </a:rPr>
              <a:t>900 OK Students </a:t>
            </a:r>
            <a:r>
              <a:rPr b="0" i="1" lang="en-US" sz="2800" spc="-1" strike="noStrike">
                <a:solidFill>
                  <a:srgbClr val="ffff66"/>
                </a:solidFill>
                <a:latin typeface="Baskerville Old Face"/>
              </a:rPr>
              <a:t>VS.</a:t>
            </a:r>
            <a:r>
              <a:rPr b="0" lang="en-US" sz="2800" spc="-1" strike="noStrike">
                <a:solidFill>
                  <a:srgbClr val="ffffff"/>
                </a:solidFill>
                <a:latin typeface="Baskerville Old Face"/>
              </a:rPr>
              <a:t> 50,000 Florida Virtual Academy Students completing 90,000 courses in 2007/8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Stacy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Comic Sans MS"/>
              </a:rPr>
              <a:t>Online Learning in Practic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Comic Sans MS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Picture 2" descr=""/>
          <p:cNvPicPr/>
          <p:nvPr/>
        </p:nvPicPr>
        <p:blipFill>
          <a:blip r:embed="rId1"/>
          <a:srcRect l="0" t="22642" r="6249" b="5119"/>
          <a:stretch/>
        </p:blipFill>
        <p:spPr>
          <a:xfrm>
            <a:off x="0" y="1752480"/>
            <a:ext cx="9144000" cy="5105520"/>
          </a:xfrm>
          <a:prstGeom prst="rect">
            <a:avLst/>
          </a:prstGeom>
          <a:ln w="0">
            <a:noFill/>
          </a:ln>
        </p:spPr>
      </p:pic>
      <p:sp>
        <p:nvSpPr>
          <p:cNvPr id="309" name="Rectangle 2"/>
          <p:cNvSpPr/>
          <p:nvPr/>
        </p:nvSpPr>
        <p:spPr>
          <a:xfrm>
            <a:off x="0" y="30492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line Learning in Pract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Butler Tech Online - Hamilton, Oh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nline Learning in Pract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One of the first online high schools in the count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Offers a variety of options for stu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Full-time, part-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Offers in conjunction with Academies</a:t>
            </a:r>
            <a:br>
              <a:rPr sz="2800"/>
            </a:b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butlertech.org/btol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Picture 2" descr=""/>
          <p:cNvPicPr/>
          <p:nvPr/>
        </p:nvPicPr>
        <p:blipFill>
          <a:blip r:embed="rId1"/>
          <a:srcRect l="0" t="22642" r="6249" b="2965"/>
          <a:stretch/>
        </p:blipFill>
        <p:spPr>
          <a:xfrm>
            <a:off x="0" y="1600200"/>
            <a:ext cx="9144000" cy="5257800"/>
          </a:xfrm>
          <a:prstGeom prst="rect">
            <a:avLst/>
          </a:prstGeom>
          <a:ln w="0">
            <a:noFill/>
          </a:ln>
        </p:spPr>
      </p:pic>
      <p:sp>
        <p:nvSpPr>
          <p:cNvPr id="315" name="Rectangle 4"/>
          <p:cNvSpPr/>
          <p:nvPr/>
        </p:nvSpPr>
        <p:spPr>
          <a:xfrm>
            <a:off x="0" y="30492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line Learning in Pract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Oklahoma Virtual High Schools – Oklahoma C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nline Learning in Pract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One of the first online high schools in Oklaho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Owned by Advanced Academ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Curriculum delivered in a variety of ways online (lecture, videos, PowerPoint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Students have a quick feeling of “success” because of frequent feedb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Picture 2" descr=""/>
          <p:cNvPicPr/>
          <p:nvPr/>
        </p:nvPicPr>
        <p:blipFill>
          <a:blip r:embed="rId1"/>
          <a:srcRect l="0" t="22642" r="6249" b="2965"/>
          <a:stretch/>
        </p:blipFill>
        <p:spPr>
          <a:xfrm>
            <a:off x="0" y="1600200"/>
            <a:ext cx="9144000" cy="5257800"/>
          </a:xfrm>
          <a:prstGeom prst="rect">
            <a:avLst/>
          </a:prstGeom>
          <a:ln w="0">
            <a:noFill/>
          </a:ln>
        </p:spPr>
      </p:pic>
      <p:sp>
        <p:nvSpPr>
          <p:cNvPr id="319" name="Rectangle 2"/>
          <p:cNvSpPr/>
          <p:nvPr/>
        </p:nvSpPr>
        <p:spPr>
          <a:xfrm>
            <a:off x="0" y="30492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line Learning in Pract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Tri-County Tech Center – Bartlesville, 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nline Learning in Pract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Offers online learning through Advanced Academ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Utilized when students can’t fit an academic course in their schedule when enrolled at Tri-Coun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One lab available to support stu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Free to student if they complete the cour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Comic Sans MS"/>
              </a:rPr>
              <a:t>Andre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uccess Rates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tructur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458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Definitions &amp; Co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National Trends &amp; Oklahoma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Online Learning in Pract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Success Rates &amp; Struc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Faculty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Future Foreca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33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State of Oklahoma Virtual High School System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>
            <a:hlinkClick r:id="" action="ppaction://hlinkshowjump?jump=nextslide"/>
          </p:cNvPr>
          <p:cNvSpPr/>
          <p:nvPr/>
        </p:nvSpPr>
        <p:spPr>
          <a:xfrm>
            <a:off x="1981080" y="914400"/>
            <a:ext cx="4648320" cy="838080"/>
          </a:xfrm>
          <a:custGeom>
            <a:avLst/>
            <a:gdLst>
              <a:gd name="textAreaLeft" fmla="*/ 54000 w 4648320"/>
              <a:gd name="textAreaRight" fmla="*/ 4594320 w 4648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119760" h="21600">
                <a:moveTo>
                  <a:pt x="0" y="0"/>
                </a:moveTo>
                <a:lnTo>
                  <a:pt x="119760" y="0"/>
                </a:lnTo>
                <a:lnTo>
                  <a:pt x="119760" y="21600"/>
                </a:lnTo>
                <a:lnTo>
                  <a:pt x="0" y="21600"/>
                </a:lnTo>
                <a:close/>
              </a:path>
              <a:path fill="lightenLess" w="119760" h="21600">
                <a:moveTo>
                  <a:pt x="0" y="0"/>
                </a:moveTo>
                <a:lnTo>
                  <a:pt x="119760" y="0"/>
                </a:lnTo>
                <a:lnTo>
                  <a:pt x="118360" y="1400"/>
                </a:lnTo>
                <a:lnTo>
                  <a:pt x="1400" y="1400"/>
                </a:lnTo>
                <a:close/>
              </a:path>
              <a:path fill="darken" w="119760" h="21600">
                <a:moveTo>
                  <a:pt x="119760" y="0"/>
                </a:moveTo>
                <a:lnTo>
                  <a:pt x="119760" y="21600"/>
                </a:lnTo>
                <a:lnTo>
                  <a:pt x="118360" y="20200"/>
                </a:lnTo>
                <a:lnTo>
                  <a:pt x="118360" y="1400"/>
                </a:lnTo>
                <a:close/>
              </a:path>
              <a:path fill="darkenLess" w="119760" h="21600">
                <a:moveTo>
                  <a:pt x="1197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8360" y="20200"/>
                </a:lnTo>
                <a:close/>
              </a:path>
              <a:path fill="lighten" w="1197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vanced Academics, Inc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2514600" y="2057400"/>
            <a:ext cx="3657600" cy="685800"/>
          </a:xfrm>
          <a:custGeom>
            <a:avLst/>
            <a:gdLst>
              <a:gd name="textAreaLeft" fmla="*/ 44280 w 3657600"/>
              <a:gd name="textAreaRight" fmla="*/ 3613320 w 36576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115151" h="21600">
                <a:moveTo>
                  <a:pt x="0" y="0"/>
                </a:moveTo>
                <a:lnTo>
                  <a:pt x="115151" y="0"/>
                </a:lnTo>
                <a:lnTo>
                  <a:pt x="115151" y="21600"/>
                </a:lnTo>
                <a:lnTo>
                  <a:pt x="0" y="21600"/>
                </a:lnTo>
                <a:close/>
              </a:path>
              <a:path fill="lightenLess" w="115151" h="21600">
                <a:moveTo>
                  <a:pt x="0" y="0"/>
                </a:moveTo>
                <a:lnTo>
                  <a:pt x="115151" y="0"/>
                </a:lnTo>
                <a:lnTo>
                  <a:pt x="113751" y="1400"/>
                </a:lnTo>
                <a:lnTo>
                  <a:pt x="1400" y="1400"/>
                </a:lnTo>
                <a:close/>
              </a:path>
              <a:path fill="darken" w="115151" h="21600">
                <a:moveTo>
                  <a:pt x="115151" y="0"/>
                </a:moveTo>
                <a:lnTo>
                  <a:pt x="115151" y="21600"/>
                </a:lnTo>
                <a:lnTo>
                  <a:pt x="113751" y="20200"/>
                </a:lnTo>
                <a:lnTo>
                  <a:pt x="113751" y="1400"/>
                </a:lnTo>
                <a:close/>
              </a:path>
              <a:path fill="darkenLess" w="115151" h="21600">
                <a:moveTo>
                  <a:pt x="1151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3751" y="20200"/>
                </a:lnTo>
                <a:close/>
              </a:path>
              <a:path fill="lighten" w="1151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rtual High Schoo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rastructu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1676520" y="3200400"/>
            <a:ext cx="1523880" cy="533520"/>
          </a:xfrm>
          <a:custGeom>
            <a:avLst/>
            <a:gdLst>
              <a:gd name="textAreaLeft" fmla="*/ 34560 w 1523880"/>
              <a:gd name="textAreaRight" fmla="*/ 1489320 w 15238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61669" h="21600">
                <a:moveTo>
                  <a:pt x="0" y="0"/>
                </a:moveTo>
                <a:lnTo>
                  <a:pt x="61669" y="0"/>
                </a:lnTo>
                <a:lnTo>
                  <a:pt x="61669" y="21600"/>
                </a:lnTo>
                <a:lnTo>
                  <a:pt x="0" y="21600"/>
                </a:lnTo>
                <a:close/>
              </a:path>
              <a:path fill="lightenLess" w="61669" h="21600">
                <a:moveTo>
                  <a:pt x="0" y="0"/>
                </a:moveTo>
                <a:lnTo>
                  <a:pt x="61669" y="0"/>
                </a:lnTo>
                <a:lnTo>
                  <a:pt x="60269" y="1400"/>
                </a:lnTo>
                <a:lnTo>
                  <a:pt x="1400" y="1400"/>
                </a:lnTo>
                <a:close/>
              </a:path>
              <a:path fill="darken" w="61669" h="21600">
                <a:moveTo>
                  <a:pt x="61669" y="0"/>
                </a:moveTo>
                <a:lnTo>
                  <a:pt x="61669" y="21600"/>
                </a:lnTo>
                <a:lnTo>
                  <a:pt x="60269" y="20200"/>
                </a:lnTo>
                <a:lnTo>
                  <a:pt x="60269" y="1400"/>
                </a:lnTo>
                <a:close/>
              </a:path>
              <a:path fill="darkenLess" w="61669" h="21600">
                <a:moveTo>
                  <a:pt x="616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0269" y="20200"/>
                </a:lnTo>
                <a:close/>
              </a:path>
              <a:path fill="lighten" w="616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klahoma C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676520" y="3809880"/>
            <a:ext cx="1523880" cy="533520"/>
          </a:xfrm>
          <a:custGeom>
            <a:avLst/>
            <a:gdLst>
              <a:gd name="textAreaLeft" fmla="*/ 34560 w 1523880"/>
              <a:gd name="textAreaRight" fmla="*/ 1489320 w 15238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61669" h="21600">
                <a:moveTo>
                  <a:pt x="0" y="0"/>
                </a:moveTo>
                <a:lnTo>
                  <a:pt x="61669" y="0"/>
                </a:lnTo>
                <a:lnTo>
                  <a:pt x="61669" y="21600"/>
                </a:lnTo>
                <a:lnTo>
                  <a:pt x="0" y="21600"/>
                </a:lnTo>
                <a:close/>
              </a:path>
              <a:path fill="lightenLess" w="61669" h="21600">
                <a:moveTo>
                  <a:pt x="0" y="0"/>
                </a:moveTo>
                <a:lnTo>
                  <a:pt x="61669" y="0"/>
                </a:lnTo>
                <a:lnTo>
                  <a:pt x="60269" y="1400"/>
                </a:lnTo>
                <a:lnTo>
                  <a:pt x="1400" y="1400"/>
                </a:lnTo>
                <a:close/>
              </a:path>
              <a:path fill="darken" w="61669" h="21600">
                <a:moveTo>
                  <a:pt x="61669" y="0"/>
                </a:moveTo>
                <a:lnTo>
                  <a:pt x="61669" y="21600"/>
                </a:lnTo>
                <a:lnTo>
                  <a:pt x="60269" y="20200"/>
                </a:lnTo>
                <a:lnTo>
                  <a:pt x="60269" y="1400"/>
                </a:lnTo>
                <a:close/>
              </a:path>
              <a:path fill="darkenLess" w="61669" h="21600">
                <a:moveTo>
                  <a:pt x="616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0269" y="20200"/>
                </a:lnTo>
                <a:close/>
              </a:path>
              <a:path fill="lighten" w="616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umm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1676520" y="4495680"/>
            <a:ext cx="1523880" cy="533520"/>
          </a:xfrm>
          <a:custGeom>
            <a:avLst/>
            <a:gdLst>
              <a:gd name="textAreaLeft" fmla="*/ 34560 w 1523880"/>
              <a:gd name="textAreaRight" fmla="*/ 1489320 w 15238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61669" h="21600">
                <a:moveTo>
                  <a:pt x="0" y="0"/>
                </a:moveTo>
                <a:lnTo>
                  <a:pt x="61669" y="0"/>
                </a:lnTo>
                <a:lnTo>
                  <a:pt x="61669" y="21600"/>
                </a:lnTo>
                <a:lnTo>
                  <a:pt x="0" y="21600"/>
                </a:lnTo>
                <a:close/>
              </a:path>
              <a:path fill="lightenLess" w="61669" h="21600">
                <a:moveTo>
                  <a:pt x="0" y="0"/>
                </a:moveTo>
                <a:lnTo>
                  <a:pt x="61669" y="0"/>
                </a:lnTo>
                <a:lnTo>
                  <a:pt x="60269" y="1400"/>
                </a:lnTo>
                <a:lnTo>
                  <a:pt x="1400" y="1400"/>
                </a:lnTo>
                <a:close/>
              </a:path>
              <a:path fill="darken" w="61669" h="21600">
                <a:moveTo>
                  <a:pt x="61669" y="0"/>
                </a:moveTo>
                <a:lnTo>
                  <a:pt x="61669" y="21600"/>
                </a:lnTo>
                <a:lnTo>
                  <a:pt x="60269" y="20200"/>
                </a:lnTo>
                <a:lnTo>
                  <a:pt x="60269" y="1400"/>
                </a:lnTo>
                <a:close/>
              </a:path>
              <a:path fill="darkenLess" w="61669" h="21600">
                <a:moveTo>
                  <a:pt x="616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0269" y="20200"/>
                </a:lnTo>
                <a:close/>
              </a:path>
              <a:path fill="lighten" w="616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ttsbu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1676520" y="5181480"/>
            <a:ext cx="1523880" cy="533520"/>
          </a:xfrm>
          <a:custGeom>
            <a:avLst/>
            <a:gdLst>
              <a:gd name="textAreaLeft" fmla="*/ 34560 w 1523880"/>
              <a:gd name="textAreaRight" fmla="*/ 1489320 w 15238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61669" h="21600">
                <a:moveTo>
                  <a:pt x="0" y="0"/>
                </a:moveTo>
                <a:lnTo>
                  <a:pt x="61669" y="0"/>
                </a:lnTo>
                <a:lnTo>
                  <a:pt x="61669" y="21600"/>
                </a:lnTo>
                <a:lnTo>
                  <a:pt x="0" y="21600"/>
                </a:lnTo>
                <a:close/>
              </a:path>
              <a:path fill="lightenLess" w="61669" h="21600">
                <a:moveTo>
                  <a:pt x="0" y="0"/>
                </a:moveTo>
                <a:lnTo>
                  <a:pt x="61669" y="0"/>
                </a:lnTo>
                <a:lnTo>
                  <a:pt x="60269" y="1400"/>
                </a:lnTo>
                <a:lnTo>
                  <a:pt x="1400" y="1400"/>
                </a:lnTo>
                <a:close/>
              </a:path>
              <a:path fill="darken" w="61669" h="21600">
                <a:moveTo>
                  <a:pt x="61669" y="0"/>
                </a:moveTo>
                <a:lnTo>
                  <a:pt x="61669" y="21600"/>
                </a:lnTo>
                <a:lnTo>
                  <a:pt x="60269" y="20200"/>
                </a:lnTo>
                <a:lnTo>
                  <a:pt x="60269" y="1400"/>
                </a:lnTo>
                <a:close/>
              </a:path>
              <a:path fill="darkenLess" w="61669" h="21600">
                <a:moveTo>
                  <a:pt x="616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0269" y="20200"/>
                </a:lnTo>
                <a:close/>
              </a:path>
              <a:path fill="lighten" w="616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ed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1676520" y="5867280"/>
            <a:ext cx="1523880" cy="533520"/>
          </a:xfrm>
          <a:custGeom>
            <a:avLst/>
            <a:gdLst>
              <a:gd name="textAreaLeft" fmla="*/ 34560 w 1523880"/>
              <a:gd name="textAreaRight" fmla="*/ 1489320 w 15238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61669" h="21600">
                <a:moveTo>
                  <a:pt x="0" y="0"/>
                </a:moveTo>
                <a:lnTo>
                  <a:pt x="61669" y="0"/>
                </a:lnTo>
                <a:lnTo>
                  <a:pt x="61669" y="21600"/>
                </a:lnTo>
                <a:lnTo>
                  <a:pt x="0" y="21600"/>
                </a:lnTo>
                <a:close/>
              </a:path>
              <a:path fill="lightenLess" w="61669" h="21600">
                <a:moveTo>
                  <a:pt x="0" y="0"/>
                </a:moveTo>
                <a:lnTo>
                  <a:pt x="61669" y="0"/>
                </a:lnTo>
                <a:lnTo>
                  <a:pt x="60269" y="1400"/>
                </a:lnTo>
                <a:lnTo>
                  <a:pt x="1400" y="1400"/>
                </a:lnTo>
                <a:close/>
              </a:path>
              <a:path fill="darken" w="61669" h="21600">
                <a:moveTo>
                  <a:pt x="61669" y="0"/>
                </a:moveTo>
                <a:lnTo>
                  <a:pt x="61669" y="21600"/>
                </a:lnTo>
                <a:lnTo>
                  <a:pt x="60269" y="20200"/>
                </a:lnTo>
                <a:lnTo>
                  <a:pt x="60269" y="1400"/>
                </a:lnTo>
                <a:close/>
              </a:path>
              <a:path fill="darkenLess" w="61669" h="21600">
                <a:moveTo>
                  <a:pt x="616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0269" y="20200"/>
                </a:lnTo>
                <a:close/>
              </a:path>
              <a:path fill="lighten" w="616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aho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28600" y="2209680"/>
            <a:ext cx="21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 School District Sys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 flipH="1">
            <a:off x="304560" y="2590920"/>
            <a:ext cx="1904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209680" y="259092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4343400" y="17524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743200" y="21337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337" name="" descr=""/>
          <p:cNvPicPr/>
          <p:nvPr/>
        </p:nvPicPr>
        <p:blipFill>
          <a:blip r:embed="rId3"/>
          <a:stretch/>
        </p:blipFill>
        <p:spPr>
          <a:xfrm>
            <a:off x="5486400" y="21337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8" name=""/>
          <p:cNvSpPr/>
          <p:nvPr/>
        </p:nvSpPr>
        <p:spPr>
          <a:xfrm>
            <a:off x="5334120" y="2895480"/>
            <a:ext cx="0" cy="83844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5562720" y="281916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800600" y="3962520"/>
            <a:ext cx="1447920" cy="132876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/>
          <p:nvPr/>
        </p:nvSpPr>
        <p:spPr>
          <a:xfrm>
            <a:off x="6705720" y="4343400"/>
            <a:ext cx="20574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irtual High Scho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9-12 grad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 flipH="1">
            <a:off x="6248520" y="472428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 flipH="1">
            <a:off x="3276720" y="350532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 flipH="1">
            <a:off x="3276720" y="6172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733920" y="3505320"/>
            <a:ext cx="0" cy="2666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 flipH="1">
            <a:off x="3733560" y="4648320"/>
            <a:ext cx="1143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3809880" y="3886200"/>
            <a:ext cx="1067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d of Instruction Ex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 flipH="1">
            <a:off x="3276720" y="403848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 flipH="1">
            <a:off x="3276720" y="472428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 flipH="1">
            <a:off x="3276720" y="541008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04920" y="4114800"/>
            <a:ext cx="874440" cy="847800"/>
          </a:xfrm>
          <a:prstGeom prst="rect">
            <a:avLst/>
          </a:prstGeom>
          <a:ln w="0">
            <a:noFill/>
          </a:ln>
        </p:spPr>
      </p:pic>
      <p:sp>
        <p:nvSpPr>
          <p:cNvPr id="352" name=""/>
          <p:cNvSpPr/>
          <p:nvPr/>
        </p:nvSpPr>
        <p:spPr>
          <a:xfrm>
            <a:off x="1523880" y="3276720"/>
            <a:ext cx="0" cy="29718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 flipH="1">
            <a:off x="1294920" y="464832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380880" y="3124080"/>
            <a:ext cx="8384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igh School Diplo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762120" y="3733920"/>
            <a:ext cx="0" cy="304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 flipH="1">
            <a:off x="1523880" y="6019920"/>
            <a:ext cx="152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523880" y="4038480"/>
            <a:ext cx="152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 flipH="1">
            <a:off x="1523880" y="4724280"/>
            <a:ext cx="152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1523880" y="5410080"/>
            <a:ext cx="152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 flipH="1">
            <a:off x="1523880" y="3429000"/>
            <a:ext cx="152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172200" y="312408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igh Speed Inter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 flipH="1">
            <a:off x="5791320" y="335268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Arial"/>
              </a:rPr>
              <a:t>Advanced Academics, Inc</a:t>
            </a:r>
            <a:br>
              <a:rPr sz="4000"/>
            </a:br>
            <a:r>
              <a:rPr b="0" i="1" lang="en-US" sz="3200" spc="-1" strike="noStrike">
                <a:solidFill>
                  <a:srgbClr val="ffff66"/>
                </a:solidFill>
                <a:latin typeface="Arial"/>
              </a:rPr>
              <a:t>Online learning simplified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38088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vanced Academics, Inc., a subsidiary of DeVry Inc. (NYSE:DV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rporate office in OKC (Bricktown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company was founded by educators who have a passion for student success. Since its inception in 2000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vanced Academics has implemented online learning programs in schools and districts across 30 sta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>
            <a:hlinkClick r:id="" action="ppaction://hlinkshowjump?jump=nextslide"/>
          </p:cNvPr>
          <p:cNvSpPr/>
          <p:nvPr/>
        </p:nvSpPr>
        <p:spPr>
          <a:xfrm>
            <a:off x="7467480" y="5562720"/>
            <a:ext cx="609840" cy="60948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13" h="21600">
                <a:moveTo>
                  <a:pt x="0" y="0"/>
                </a:moveTo>
                <a:lnTo>
                  <a:pt x="21613" y="0"/>
                </a:lnTo>
                <a:lnTo>
                  <a:pt x="21613" y="21600"/>
                </a:lnTo>
                <a:lnTo>
                  <a:pt x="0" y="21600"/>
                </a:lnTo>
                <a:close/>
              </a:path>
              <a:path fill="lightenLess" w="21613" h="21600">
                <a:moveTo>
                  <a:pt x="0" y="0"/>
                </a:moveTo>
                <a:lnTo>
                  <a:pt x="21613" y="0"/>
                </a:lnTo>
                <a:lnTo>
                  <a:pt x="20213" y="1400"/>
                </a:lnTo>
                <a:lnTo>
                  <a:pt x="1400" y="1400"/>
                </a:lnTo>
                <a:close/>
              </a:path>
              <a:path fill="darken" w="21613" h="21600">
                <a:moveTo>
                  <a:pt x="21613" y="0"/>
                </a:moveTo>
                <a:lnTo>
                  <a:pt x="21613" y="21600"/>
                </a:lnTo>
                <a:lnTo>
                  <a:pt x="20213" y="20200"/>
                </a:lnTo>
                <a:lnTo>
                  <a:pt x="20213" y="1400"/>
                </a:lnTo>
                <a:close/>
              </a:path>
              <a:path fill="darkenLess" w="21613" h="21600">
                <a:moveTo>
                  <a:pt x="216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3" y="20200"/>
                </a:lnTo>
                <a:close/>
              </a:path>
              <a:path fill="lighten" w="216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3" h="21600">
                <a:moveTo>
                  <a:pt x="3800" y="3794"/>
                </a:moveTo>
                <a:lnTo>
                  <a:pt x="17813" y="10800"/>
                </a:lnTo>
                <a:lnTo>
                  <a:pt x="380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2002, the company received regional accreditation as a diploma-granting institution from the North Central Association Commission on Accreditation (NC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d national accreditation from the Commission on International and Trans-Regional Accreditation (CITA). We gained these accreditations in order to validate our proc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Arial"/>
              </a:rPr>
              <a:t>Advanced Academics, Inc</a:t>
            </a:r>
            <a:br>
              <a:rPr sz="4000"/>
            </a:br>
            <a:r>
              <a:rPr b="0" i="1" lang="en-US" sz="3200" spc="-1" strike="noStrike">
                <a:solidFill>
                  <a:srgbClr val="ffff66"/>
                </a:solidFill>
                <a:latin typeface="Arial"/>
              </a:rPr>
              <a:t>Online learning simplified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>
            <a:hlinkClick r:id="" action="ppaction://hlinkshowjump?jump=firstslide"/>
          </p:cNvPr>
          <p:cNvSpPr/>
          <p:nvPr/>
        </p:nvSpPr>
        <p:spPr>
          <a:xfrm>
            <a:off x="7772400" y="5791320"/>
            <a:ext cx="609480" cy="53316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/>
          </p:nvPr>
        </p:nvSpPr>
        <p:spPr>
          <a:xfrm>
            <a:off x="457200" y="380880"/>
            <a:ext cx="82296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gisl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te of Oklahoma Dept. of 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chool Bo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vanced Academic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uden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if full tim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1752480" y="685800"/>
            <a:ext cx="0" cy="5105520"/>
          </a:xfrm>
          <a:prstGeom prst="line">
            <a:avLst/>
          </a:prstGeom>
          <a:ln w="38160">
            <a:solidFill>
              <a:srgbClr val="ffff66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391520" y="685800"/>
            <a:ext cx="0" cy="5105520"/>
          </a:xfrm>
          <a:prstGeom prst="line">
            <a:avLst/>
          </a:prstGeom>
          <a:ln w="38160">
            <a:solidFill>
              <a:srgbClr val="ffff66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4419720" y="5257800"/>
            <a:ext cx="304560" cy="304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4419720" y="5257800"/>
            <a:ext cx="304560" cy="304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>
            <a:hlinkClick r:id="" action="ppaction://hlinkshowjump?jump=nextslide"/>
          </p:cNvPr>
          <p:cNvSpPr/>
          <p:nvPr/>
        </p:nvSpPr>
        <p:spPr>
          <a:xfrm>
            <a:off x="7848720" y="5791320"/>
            <a:ext cx="609480" cy="6094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50000">
              <a:srgbClr val="004646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Arial"/>
              </a:rPr>
              <a:t>Infrastructure </a:t>
            </a:r>
            <a:br>
              <a:rPr sz="4000"/>
            </a:br>
            <a:r>
              <a:rPr b="0" i="1" lang="en-US" sz="3200" spc="-1" strike="noStrike">
                <a:solidFill>
                  <a:srgbClr val="ffff66"/>
                </a:solidFill>
                <a:latin typeface="Arial"/>
              </a:rPr>
              <a:t>(cos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7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7,000,000 (Initial start up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, 500,000 (Annually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33520" y="3352680"/>
            <a:ext cx="8229600" cy="0"/>
          </a:xfrm>
          <a:prstGeom prst="line">
            <a:avLst/>
          </a:prstGeom>
          <a:ln w="38160">
            <a:solidFill>
              <a:srgbClr val="ffff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609480" y="3505320"/>
            <a:ext cx="8229600" cy="23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66"/>
                </a:solidFill>
                <a:latin typeface="Arial"/>
                <a:ea typeface="Osaka"/>
              </a:rPr>
              <a:t>(Revenue) </a:t>
            </a:r>
            <a:r>
              <a:rPr b="0" i="1" lang="en-US" sz="1600" spc="-1" strike="noStrike">
                <a:solidFill>
                  <a:srgbClr val="ffff66"/>
                </a:solidFill>
                <a:latin typeface="Arial"/>
                <a:ea typeface="Osaka"/>
              </a:rPr>
              <a:t>Oklahoma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Osak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Osaka"/>
              </a:rPr>
              <a:t>4,500 per-student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Osaka"/>
              </a:rPr>
              <a:t>(average)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Osak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Osaka"/>
              </a:rPr>
              <a:t>@ 945 studen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Osaka"/>
              </a:rPr>
              <a:t>= 4,252,5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Arial"/>
              </a:rPr>
              <a:t>Retention Rates / Success Ra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Nationally </a:t>
            </a:r>
            <a:r>
              <a:rPr b="0" lang="en-US" sz="1200" spc="-1" strike="noStrike">
                <a:solidFill>
                  <a:srgbClr val="ffff66"/>
                </a:solidFill>
                <a:latin typeface="Arial"/>
              </a:rPr>
              <a:t>(weekl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umber of courses 8899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umber of enrolled in courses 74% (6,58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umber active 62% (5,51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Oklahoma </a:t>
            </a:r>
            <a:r>
              <a:rPr b="0" lang="en-US" sz="1200" spc="-1" strike="noStrike">
                <a:solidFill>
                  <a:srgbClr val="ffff66"/>
                </a:solidFill>
                <a:latin typeface="Arial"/>
              </a:rPr>
              <a:t>(weekl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umber of Students 9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umber of enrolled courses 296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% of enrolled courses that are active 8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% of active courses on track 56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% of enrolled courses completed 5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>
            <a:hlinkClick r:id="" action="ppaction://hlinkshowjump?jump=firstslide"/>
          </p:cNvPr>
          <p:cNvSpPr/>
          <p:nvPr/>
        </p:nvSpPr>
        <p:spPr>
          <a:xfrm>
            <a:off x="8077320" y="5943600"/>
            <a:ext cx="533160" cy="53352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15">
                <a:moveTo>
                  <a:pt x="0" y="0"/>
                </a:moveTo>
                <a:lnTo>
                  <a:pt x="21600" y="0"/>
                </a:lnTo>
                <a:lnTo>
                  <a:pt x="21600" y="21615"/>
                </a:lnTo>
                <a:lnTo>
                  <a:pt x="0" y="21615"/>
                </a:lnTo>
                <a:close/>
              </a:path>
              <a:path fill="lightenLess" w="21600" h="2161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5">
                <a:moveTo>
                  <a:pt x="21600" y="0"/>
                </a:moveTo>
                <a:lnTo>
                  <a:pt x="21600" y="21615"/>
                </a:lnTo>
                <a:lnTo>
                  <a:pt x="20200" y="20215"/>
                </a:lnTo>
                <a:lnTo>
                  <a:pt x="20200" y="1400"/>
                </a:lnTo>
                <a:close/>
              </a:path>
              <a:path fill="darkenLess" w="21600" h="21615">
                <a:moveTo>
                  <a:pt x="21600" y="21615"/>
                </a:moveTo>
                <a:lnTo>
                  <a:pt x="0" y="21615"/>
                </a:lnTo>
                <a:lnTo>
                  <a:pt x="1400" y="20215"/>
                </a:lnTo>
                <a:lnTo>
                  <a:pt x="20200" y="20215"/>
                </a:lnTo>
                <a:close/>
              </a:path>
              <a:path fill="lighten" w="21600" h="21615">
                <a:moveTo>
                  <a:pt x="0" y="2161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5"/>
                </a:lnTo>
                <a:close/>
              </a:path>
              <a:path fill="darken" w="21600" h="21615">
                <a:moveTo>
                  <a:pt x="10800" y="3844"/>
                </a:moveTo>
                <a:lnTo>
                  <a:pt x="13376" y="6455"/>
                </a:lnTo>
                <a:lnTo>
                  <a:pt x="13376" y="4715"/>
                </a:lnTo>
                <a:lnTo>
                  <a:pt x="15152" y="4715"/>
                </a:lnTo>
                <a:lnTo>
                  <a:pt x="15152" y="8231"/>
                </a:lnTo>
                <a:lnTo>
                  <a:pt x="17763" y="10807"/>
                </a:lnTo>
                <a:lnTo>
                  <a:pt x="16109" y="10807"/>
                </a:lnTo>
                <a:lnTo>
                  <a:pt x="16109" y="17997"/>
                </a:lnTo>
                <a:lnTo>
                  <a:pt x="5491" y="17997"/>
                </a:lnTo>
                <a:lnTo>
                  <a:pt x="5491" y="10807"/>
                </a:lnTo>
                <a:lnTo>
                  <a:pt x="3837" y="10807"/>
                </a:lnTo>
                <a:close/>
              </a:path>
              <a:path fill="darkenLess" w="21600" h="21615">
                <a:moveTo>
                  <a:pt x="13376" y="6455"/>
                </a:moveTo>
                <a:lnTo>
                  <a:pt x="13376" y="4715"/>
                </a:lnTo>
                <a:lnTo>
                  <a:pt x="15152" y="4715"/>
                </a:lnTo>
                <a:lnTo>
                  <a:pt x="15152" y="8231"/>
                </a:lnTo>
                <a:close/>
              </a:path>
              <a:path fill="darkenLess" w="21600" h="21615">
                <a:moveTo>
                  <a:pt x="9877" y="14306"/>
                </a:moveTo>
                <a:lnTo>
                  <a:pt x="11723" y="14306"/>
                </a:lnTo>
                <a:lnTo>
                  <a:pt x="11723" y="17997"/>
                </a:lnTo>
                <a:lnTo>
                  <a:pt x="16109" y="17997"/>
                </a:lnTo>
                <a:lnTo>
                  <a:pt x="16109" y="10807"/>
                </a:lnTo>
                <a:lnTo>
                  <a:pt x="5491" y="10807"/>
                </a:lnTo>
                <a:lnTo>
                  <a:pt x="5491" y="17997"/>
                </a:lnTo>
                <a:lnTo>
                  <a:pt x="9877" y="17997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Eligi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PA 2.00 (mi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 IEP'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ood EOI (End of Instruction) s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t in OKC public schools (must be a OKC high school drop out or ask for an open transf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nef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nline high school diploma will be the same as traditional stud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y take year book picture, attend prom, walk at graduation etc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762120" y="3886200"/>
            <a:ext cx="7772400" cy="0"/>
          </a:xfrm>
          <a:prstGeom prst="line">
            <a:avLst/>
          </a:prstGeom>
          <a:ln w="28440">
            <a:solidFill>
              <a:srgbClr val="ffff66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>
            <a:hlinkClick r:id="" action="ppaction://hlinkshowjump?jump=firstslide"/>
          </p:cNvPr>
          <p:cNvSpPr/>
          <p:nvPr/>
        </p:nvSpPr>
        <p:spPr>
          <a:xfrm>
            <a:off x="8001000" y="6019920"/>
            <a:ext cx="609480" cy="53316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Betsy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Comic Sans MS"/>
              </a:rPr>
              <a:t>Faculty Developmen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Comic Sans MS"/>
              </a:rPr>
              <a:t>Quality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Comic Sans MS"/>
              </a:rPr>
              <a:t>Future Forecast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aculty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228600" y="1904760"/>
            <a:ext cx="8610480" cy="41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Online instructor’s role requires a paradigm shift in perceptions of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Baskerville Old Face"/>
              </a:rPr>
              <a:t>instructional time &amp; space</a:t>
            </a:r>
            <a:r>
              <a:rPr b="1" lang="en-US" sz="2800" spc="-1" strike="noStrike">
                <a:solidFill>
                  <a:srgbClr val="ffffff"/>
                </a:solidFill>
                <a:latin typeface="Baskerville Old Face"/>
              </a:rPr>
              <a:t>,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en-US" sz="2800" spc="-1" strike="noStrike" u="sng">
                <a:solidFill>
                  <a:srgbClr val="ffff66"/>
                </a:solidFill>
                <a:uFillTx/>
                <a:latin typeface="Baskerville Old Face"/>
              </a:rPr>
              <a:t>virtual management techniques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, &amp;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Baskerville Old Face"/>
              </a:rPr>
              <a:t>ways of engaging students through virtual communications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.”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(Easton, 2003)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Systems Appro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Just-in-Time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Quality Indicators of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istance Educa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Based on results of a systematic literature review of 160 articles and twelve book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228240" y="2286000"/>
            <a:ext cx="883908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Student-teacher inter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Prompt feedback from instruc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Program evaluation &amp; assess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Clear analysis of audi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Documented technology plan to ensure qu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Institutional support &amp; institutional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Course structure guidel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1"/>
                            </p:stCondLst>
                            <p:childTnLst>
                              <p:par>
                                <p:cTn id="168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2001"/>
                            </p:stCondLst>
                            <p:childTnLst>
                              <p:par>
                                <p:cTn id="171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3503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5004"/>
                            </p:stCondLst>
                            <p:childTnLst>
                              <p:par>
                                <p:cTn id="177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7505"/>
                            </p:stCondLst>
                            <p:childTnLst>
                              <p:par>
                                <p:cTn id="180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9506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Carrie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5800" y="3110040"/>
            <a:ext cx="7772400" cy="2985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Comic Sans MS"/>
              </a:rPr>
              <a:t>Definition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Comic Sans MS"/>
              </a:rPr>
              <a:t>Cost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Quality Indicators of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tance Education (cont’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839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Active learning techniq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Respect diverse ways of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Faculty support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Strong rationale for distance education that correlates to the mission of the instit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Appropriate tools and 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Reliability of techn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Implementation of guidelines for course development and review of instructional materials</a:t>
            </a:r>
            <a:br>
              <a:rPr sz="2800"/>
            </a:b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Chaney 2006) as quoted in Chaney, B.H., et al. (2007). Development of an instrument to assess student opinions of the quality of distance education courses. </a:t>
            </a: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The American Journal of Distance Education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, 21(3), p. 145-16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3002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4003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0004"/>
                            </p:stCondLst>
                            <p:childTnLst>
                              <p:par>
                                <p:cTn id="201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11505"/>
                            </p:stCondLst>
                            <p:childTnLst>
                              <p:par>
                                <p:cTn id="204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12506"/>
                            </p:stCondLst>
                            <p:childTnLst>
                              <p:par>
                                <p:cTn id="207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7507"/>
                            </p:stCondLst>
                            <p:childTnLst>
                              <p:par>
                                <p:cTn id="210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asuring Qu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304560" y="190512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Quality Consider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Assess with a Rubr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California State University, Chico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A User’s Guide to Online Cour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www.nea.org/technology/distanced/highsch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How to Choose an Online High Sch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handout retrieved fro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distancelearn.about.com/od/virtualhighschools/a/OnlneHighQ.h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’s the bottom lin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 “</a:t>
            </a: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It has more to do with whether this is a good way for (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ch</a:t>
            </a: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) student to learn. To me, I look at online learning not as something that’s going to be the savior of education,” she said. “This is one alternative.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Angela Specketer, Principal of Minnesota Virtual Academ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(full-time virtual started in 200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/>
          </p:nvPr>
        </p:nvSpPr>
        <p:spPr>
          <a:xfrm>
            <a:off x="228600" y="3045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uture Foreca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What do you see as the challeng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152280" y="1698480"/>
            <a:ext cx="8991720" cy="35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17604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  <a:ea typeface="Osaka"/>
              </a:rPr>
              <a:t>Meeting individual learner’s needs &amp; </a:t>
            </a: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diverse learning styles</a:t>
            </a:r>
            <a:r>
              <a:rPr b="0" lang="en-US" sz="2800" spc="-1" strike="noStrike">
                <a:solidFill>
                  <a:srgbClr val="ffff66"/>
                </a:solidFill>
                <a:latin typeface="Arial"/>
                <a:ea typeface="Osak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17604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IEPs – truly customer focu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176040"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Active participation, engagement, motiv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176040"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Appropriate use of tools, technologies, methods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176040"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Oklahoma education poli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176040"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What els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e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Definitions &amp; Co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National Trends &amp; Oklahoma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Online Learning in Pract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Success Rates &amp; Struc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Faculty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Future Foreca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1828800" y="5562720"/>
            <a:ext cx="579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ur Conclusion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327636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Online Learning is Her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an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 It is Here to Sta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So…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"/>
          <p:cNvSpPr/>
          <p:nvPr/>
        </p:nvSpPr>
        <p:spPr>
          <a:xfrm>
            <a:off x="4952880" y="4267080"/>
            <a:ext cx="3657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Get Over Yourself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5" name="" descr=""/>
          <p:cNvPicPr/>
          <p:nvPr/>
        </p:nvPicPr>
        <p:blipFill>
          <a:blip r:embed="rId2"/>
          <a:srcRect l="15835" t="0" r="8163" b="14006"/>
          <a:stretch/>
        </p:blipFill>
        <p:spPr>
          <a:xfrm>
            <a:off x="1600200" y="3200400"/>
            <a:ext cx="2347920" cy="3276720"/>
          </a:xfrm>
          <a:prstGeom prst="rect">
            <a:avLst/>
          </a:prstGeom>
          <a:ln w="19080">
            <a:solidFill>
              <a:srgbClr val="333399"/>
            </a:solidFill>
            <a:miter/>
          </a:ln>
          <a:effectLst>
            <a:outerShdw dist="107932" dir="13500000" blurRad="0" rotWithShape="0">
              <a:srgbClr val="808080"/>
            </a:outerShdw>
          </a:effectLst>
        </p:spPr>
      </p:pic>
      <p:sp>
        <p:nvSpPr>
          <p:cNvPr id="406" name=""/>
          <p:cNvSpPr/>
          <p:nvPr/>
        </p:nvSpPr>
        <p:spPr>
          <a:xfrm>
            <a:off x="304920" y="0"/>
            <a:ext cx="281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clusion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0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41">
                                  <p:stCondLst>
                                    <p:cond delay="1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7100"/>
                            </p:stCondLst>
                            <p:childTnLst>
                              <p:par>
                                <p:cTn id="227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4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4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8100"/>
                            </p:stCondLst>
                            <p:childTnLst>
                              <p:par>
                                <p:cTn id="23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0100"/>
                            </p:stCondLst>
                            <p:childTnLst>
                              <p:par>
                                <p:cTn id="25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53" dur="2000" fill="hold"/>
                                        <p:tgtEl>
                                          <p:spTgt spid="40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Audience Response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2438280" y="3044520"/>
            <a:ext cx="4572000" cy="201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Comic Sans MS"/>
              </a:rPr>
              <a:t>Questions 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omments 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Comic Sans MS"/>
              </a:rPr>
              <a:t>Concerns #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0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25"/>
                                  </p:iterate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0" dur="250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1" dur="250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2" dur="250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1625"/>
                            </p:stCondLst>
                            <p:childTnLst>
                              <p:par>
                                <p:cTn id="26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25"/>
                                  </p:iterate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6" dur="250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7" dur="250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8" dur="250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3125"/>
                            </p:stCondLst>
                            <p:childTnLst>
                              <p:par>
                                <p:cTn id="27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25"/>
                                  </p:iterate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2" dur="250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3" dur="250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4" dur="250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are Online High School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609120" y="1980720"/>
            <a:ext cx="75438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Public or private schools that allow students to work with their curriculum &amp; teachers using the Internet, rather than in a traditional classroom sett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n option for students who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Need to stay home for health reas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Desire to work at their own p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Find themselves unable to concentrate on their work in the traditional se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Need to schedule their learning around a care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3908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nline High School Edu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Types of Online High School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1- Public/Char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2- Priv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3- University Affiliat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st of Public Online HS in 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152280" y="137124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Currently OK has 900 students on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#s continue to increase based on how many students the 6 partnering schls will t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Free for full time students (6 courses/semest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Part Time Students pay $400 per cour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Generally provide curriculum &amp; other materials at no c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Some offer computer leases &amp; pay for student internet conn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st of Private Online H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228600" y="1600200"/>
            <a:ext cx="8610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No Private online in 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Tend to be expens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(possible to find non-profit program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Some are as much as $16,000 for a 4-year diploma progra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Possible to find low-cost alternativ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like Penn Foster complete diploma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approx. $1,29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1T14:35:21Z</dcterms:created>
  <dc:creator>Erica Burns</dc:creator>
  <dc:description/>
  <dc:language>en-US</dc:language>
  <cp:lastModifiedBy>Betsy</cp:lastModifiedBy>
  <dcterms:modified xsi:type="dcterms:W3CDTF">2008-10-22T18:05:25Z</dcterms:modified>
  <cp:revision>107</cp:revision>
  <dc:subject/>
  <dc:title>Online High Schools &amp; the Future of High School Diplomas</dc:title>
</cp:coreProperties>
</file>