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3.jpeg" ContentType="image/jpeg"/>
  <Override PartName="/ppt/media/image11.wmf" ContentType="image/x-wmf"/>
  <Override PartName="/ppt/media/image9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21.jpeg" ContentType="image/jpeg"/>
  <Override PartName="/ppt/media/image16.png" ContentType="image/png"/>
  <Override PartName="/ppt/media/image20.wmf" ContentType="image/x-wmf"/>
  <Override PartName="/ppt/media/image19.wmf" ContentType="image/x-wmf"/>
  <Override PartName="/ppt/media/image18.png" ContentType="image/png"/>
  <Override PartName="/ppt/media/image17.png" ContentType="image/png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6.jpeg" ContentType="image/jpeg"/>
  <Override PartName="/ppt/media/image5.wmf" ContentType="image/x-wmf"/>
  <Override PartName="/ppt/media/image10.png" ContentType="image/png"/>
  <Override PartName="/ppt/media/image2.jpeg" ContentType="image/jpeg"/>
  <Override PartName="/ppt/media/image3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  <p:sldId id="297" r:id="rId50"/>
    <p:sldId id="298" r:id="rId51"/>
    <p:sldId id="299" r:id="rId52"/>
    <p:sldId id="300" r:id="rId53"/>
    <p:sldId id="301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slide" Target="slides/slide42.xml"/><Relationship Id="rId51" Type="http://schemas.openxmlformats.org/officeDocument/2006/relationships/slide" Target="slides/slide43.xml"/><Relationship Id="rId52" Type="http://schemas.openxmlformats.org/officeDocument/2006/relationships/slide" Target="slides/slide44.xml"/><Relationship Id="rId53" Type="http://schemas.openxmlformats.org/officeDocument/2006/relationships/slide" Target="slides/slide45.xml"/><Relationship Id="rId54" Type="http://schemas.openxmlformats.org/officeDocument/2006/relationships/slide" Target="slides/slide46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dt" idx="19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ftr" idx="20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 type="sldNum" idx="21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F2EDF-FBEF-4431-8496-A8BF8F53A2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1E3B9-98E7-4661-9D96-C7EAEC5934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C81A1-5BA7-4A3C-A271-C869F8FE9A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EED39-56E6-4BE2-BCB4-D2AC1A6761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13AC3-EB1D-4297-9147-93AC28237F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1DC34-03D4-4463-A6C0-8B83FED651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11397-8B7D-4442-8120-030207E280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762120" y="60948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49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oodyear in 2001 identified 9 instructor roles!  Content facilitator, technologist, designer, manager/administrator, process facilitator, advisor/counselor, assessor, research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stems approach to online learn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unselors, enrollment process, orient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ructional design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ubject matter expe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nline assistants (assistance), tech, bookstore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ach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mpus Technology, October 2008 “Just-in-Time Support identifies 8 best practices for providing support to online facul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itutionalize the basics – provide orientation &amp; FAQ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loaded Course Templa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ke sure faculty aren’t first responders for non-content related ques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st-in-Time Support  in development st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ntoring from experienced online instructo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ink through pedagogy behind the technology tools-wikis, blogs, (why, how, whe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velop the above systems support (instructional team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gin a COP for facul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INT OUT CHALLENGE AREAS – discussion point – what do you see as challenge ar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Quality Indicators of Distance Education Identified in the Lit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results of a systematic literature review of 160 articles and twelve book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haney 2006) as quoted in Chaney, B.H., et al. (2007). Development of an instrument to assess student opinions of the quality of distance education courses.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he American Journal of Distance Educ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21(3), p. 145-164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ddition, a study completed by the NEA and Blackboard Inc., (Institute for Higher Education Policy study commissioned by NEA and Blackboard) released in 2000, found 24 quality benchmarks for success in internet-based distance education.  Shimp, in an unpublished dissertation completed in December 2007, reviewed 278 articles published in 4 journals from 2000-2006 and found the same benchmarks and 2 additional benchmar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-orientation to distance education courses or pro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er interaction with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eas of Rubric Chico State Rubric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 Learner Support &amp; Resour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 Online Organization and 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 Instructional Design/Deliv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 Evaluation of Student Lear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. Innovative Teaching w/Techn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. Use of Student Feedb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also an Instructional Design Tips for Online Learning developed by Joan Van Duzer, Humboldt State University) in conjunction with the Chico State Rub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what point will this no longer just be an alternativ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CCE4-B732-4121-A9FD-A1E8CEA9A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9548-8FDD-4C77-9CCD-878777BCD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1ACF-81D5-4283-B789-FC1AD9FCC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4F1E-3D8E-4DB4-AB20-046D1F806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9EB6E-2591-405C-A948-2466C2216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4AAA2-8E53-4BE5-AA71-C63E9C369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34DAA-E7BF-46DF-B206-1E76AE051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B7F47-0815-47C0-A280-49D01BFA5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D9CB3-699C-4E40-A7CA-3EF7D14E1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05669-2288-4F78-9CC1-6D4BD9042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F2125-BDDF-4BC0-AD2A-4F6110A56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7E4A-0F5C-4B43-BCDF-136C8C8AD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EC58D-90B1-4B2C-BFB0-C33628F94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1F36B-F4F5-41A2-86C6-3FE0C9DE9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EAB62-BA28-42A1-9CBA-CC9D6B0C0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CDF78-5E0E-406D-9ACB-2E34B5A1C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62316-B74D-45E0-94EE-08CF90402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A87340-00EA-4E3C-98BB-71DECEB10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585465-5E84-497A-A380-DB1FE3960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55927F-A926-470F-9F6C-825EC6798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B51907-9334-4EB8-8B9F-F3E116D34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863358-0F06-47C8-8D81-D5A8A55AE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122B-F13C-4903-A387-B1AFFE87C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A879D0-4327-472A-AD11-4A58022D4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41E54E-72E3-4930-9C29-FAA344F48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410AEC-3511-4907-8E1E-721FB7A0B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B313CA-DA9E-4BD0-A7A6-EFB6A48AE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DA37B9-FD12-40FA-9CD1-FBA352D24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D290FC-DAAA-46EE-8D01-0E60ABBF6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D7147D-0B1E-4BFF-9AB5-24A58EC89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A75B65-35EC-4A5F-AD17-E5059120E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B7091A-E6CE-4778-8D8F-74204BD2D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D3FF90-67DC-485D-A6C5-C84A4A154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4E12-4D3D-4928-8DAF-32FB67A94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0B0C21-E0FC-4430-AF7B-8F05739E8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196411-ABBD-463A-A1E2-500E8F16D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A60DC0-E84C-4CF2-A40C-C9D78BCA8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0376A8-C57E-4943-A985-3ED68E9B6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2426B2-AA45-4500-8454-FF4D01698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9BBDC9-83EF-478D-B4EE-00B323F57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E1E202-13B7-4131-A3D4-5FE884D6F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CF4B19-9EA9-4FD5-8CCA-B84EB3E85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13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4144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85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13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4144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29656E-D443-41C4-8FDC-23DBD710F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CA64FA-B900-4CFB-860C-38AB115C5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CE5F-D2E9-47C9-943E-6E700451B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19F9E9-BC5F-4A06-9DCD-50541F247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2D8657-3587-4A8D-9293-3D0CC91C2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6C1CD6-15B7-4C34-9A04-5658D1F44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5AE341-32E0-4192-B648-4C6BDE8F4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94C8F5-D705-493E-8B19-011293B30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456385-D477-4286-A728-0850D5674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0B2337-2BF2-4208-9D99-20C97E5C3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386E2D-264E-4C66-B0E7-6E6DE00EA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843305-416F-454D-A46C-5C0EA6F9A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0A2211-361C-4A26-B9F1-51761A668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DED4-D15A-4BBE-8EF6-B1B669165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313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94144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685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313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594144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C09763-CA83-4FF4-A1BB-A42DE90FE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9C0F2A-EFDF-46A9-99D0-72AEB8F6E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0ECDBF-BE4F-454B-A0E9-17F0F1553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4D7EF1-A7BF-4443-B75C-D34C3A53F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1AE136-FB9E-4DE8-BE42-76F146A76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8355B5-CC6F-43E2-86C1-BAD5D5EAE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5C3983-7CF8-4007-9DB9-F9B497F4A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B3E43B-25A2-4A09-B5AD-0844DA32C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08D1AB-855F-47FE-9440-4074E4C1A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9E10B9-7B06-4414-BCFA-BA951DDE0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5663-30D5-4157-8015-A241DC324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58546A-ED37-44E3-BB7D-A3218EF9B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696ACB-16BA-4711-99BB-EB1003531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313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94144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685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313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594144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79A2D8-8B4C-4C35-BAD6-2E51E00A9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C2D5-E29D-4C0A-8917-B461209D2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95F5-7A62-43CF-A71C-91944C11A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0F410-1AC4-4948-BF40-F7546FBB2A3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054EF-E57A-427E-A969-4CF0595EFDF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buClr>
                <a:srgbClr val="66cc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buClr>
                <a:srgbClr val="80ff00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36520" indent="-226080">
              <a:buClr>
                <a:srgbClr val="ffcc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36520" indent="-226080">
              <a:buClr>
                <a:srgbClr val="000000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36520" indent="-226080">
              <a:buClr>
                <a:srgbClr val="000000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CBC85-D06B-45F0-A04C-E7F78E45C083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10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ftr" idx="11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12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C3E21-823A-4FAE-B668-555EE6D28DD5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49CAD-B75E-442E-A4D2-30B21A714AB6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87DF9-4CD9-4175-81F9-242EE77FB34A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image" Target="../media/image6.jpeg"/><Relationship Id="rId6" Type="http://schemas.openxmlformats.org/officeDocument/2006/relationships/oleObject" Target="../embeddings/oleObject3.bin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butlertech.org/btol/" TargetMode="External"/><Relationship Id="rId2" Type="http://schemas.openxmlformats.org/officeDocument/2006/relationships/hyperlink" Target="http://www.butlertech.org/btol/" TargetMode="External"/><Relationship Id="rId3" Type="http://schemas.openxmlformats.org/officeDocument/2006/relationships/hyperlink" Target="http://www.butlertech.org/btol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33.xml"/><Relationship Id="rId3" Type="http://schemas.openxmlformats.org/officeDocument/2006/relationships/image" Target="../media/image19.wmf"/><Relationship Id="rId4" Type="http://schemas.openxmlformats.org/officeDocument/2006/relationships/image" Target="../media/image19.wmf"/><Relationship Id="rId5" Type="http://schemas.openxmlformats.org/officeDocument/2006/relationships/slide" Target="slide36.xml"/><Relationship Id="rId6" Type="http://schemas.openxmlformats.org/officeDocument/2006/relationships/image" Target="../media/image19.wmf"/><Relationship Id="rId7" Type="http://schemas.openxmlformats.org/officeDocument/2006/relationships/slide" Target="slide35.xml"/><Relationship Id="rId8" Type="http://schemas.openxmlformats.org/officeDocument/2006/relationships/image" Target="../media/image20.wmf"/><Relationship Id="rId9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http://distancelearn.about.com/od/virtualhighschools/a/OnlneHighQ.htm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5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33520" y="5409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Bureau of Labor Statistics</a:t>
            </a: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ffff66"/>
                </a:solidFill>
                <a:latin typeface="Verdana"/>
              </a:rPr>
              <a:t>Note: Data are 2007 annual averages for persons age 25 and over. Earnings are for full-time wage and salary workers. UPDATED APRIL 2008</a:t>
            </a:r>
            <a:br>
              <a:rPr sz="1300"/>
            </a:br>
            <a:br>
              <a:rPr sz="1300"/>
            </a:br>
            <a:r>
              <a:rPr b="0" lang="en-US" sz="1400" spc="-1" strike="noStrike">
                <a:solidFill>
                  <a:srgbClr val="ffff66"/>
                </a:solidFill>
                <a:latin typeface="Arial"/>
              </a:rPr>
              <a:t>http://www.bls.gov/emp/emptab7.htm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152280" y="304920"/>
            <a:ext cx="8839440" cy="49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st of University Affiliated Online H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228600" y="121896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Tend to be expensiv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Stanford’s gifted-student program co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$13,000 per year.  Courses range from $495 to $740 each w/additional $50 for materials &amp; shipping per cour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Possible to find schls that charge &lt; $150 per credi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The University of Oklahoma High School costs $1,725 per year ($180 per course) in addition to several fe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ech Program O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04920" y="19810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Tech Program will pay for part time 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Students spend ½ day in tech center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&amp; tech center pays for supplemental academic cour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Comic Sans MS"/>
              </a:rPr>
              <a:t>Erica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3110040"/>
            <a:ext cx="7772400" cy="298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tional Trend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klahomans’ Opinion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National Tr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51920" y="1294920"/>
            <a:ext cx="8991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Florida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Most wide-ranging virtual mandate in the n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State law requires districts to create full-time virtual schools K-1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Michigan: </a:t>
            </a: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Recent requirement that ALL graduates mus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have an online learning experience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(Other state-wide = Illinois &amp; Idah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Minnesota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Full-time virtual K-12, launched in 20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Elementary = 20% online + plastic tubs of materials @ home</a:t>
            </a: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Washington State &amp; Massachusetts: </a:t>
            </a: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exploring idea of increasing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te-led initiatives</a:t>
            </a: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 to state-wid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Oklaho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Arial"/>
              </a:rPr>
              <a:t>http://www.palmbeachpost.com/search/content/local_news/epaper/2008/09/28/a1a_virtual_school_0929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Arial"/>
              </a:rPr>
              <a:t>http://www.sbe.wa.gov/documents/OnlineLearningMemo051408.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Oklahoma Public Opinion Po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ategic Vision Phone Survey: April 25-27, 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,200 Oklahoma Registered Vo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dom Selection using All Active Area C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1% Female, 49% Male, 78% with K-12 child/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7% Democrats, 40% Republicans, 13%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7% White &amp; 75% w/Family Income +$50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rgin of Error: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+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3 percentage 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Poll Sponsors:  Friedman Foundation &amp;  Oklahoma Council of Public Affai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Arial"/>
              </a:rPr>
              <a:t>Other Sponsors include:  The Department of Catholic Education-Archdiocese of Oklahoma City, Americans for Prosperity-Oklahoma, American Legislative Exchange Council, Black Alliance for Educational Options, Center for Education Reform, Connections Academy, Hispanic Council for Reform &amp; Educational Options, &amp; the National Catholic Educational Associ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ccessed on October 10, 2008:  http://www.hcreo.org/files/1097_files_Friedman_OK_Survey.p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30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30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7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3000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30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7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6000"/>
                            </p:stCondLst>
                            <p:childTnLst>
                              <p:par>
                                <p:cTn id="3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3000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3000" fill="hold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700" fill="hold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9000"/>
                            </p:stCondLst>
                            <p:childTnLst>
                              <p:par>
                                <p:cTn id="4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3000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3000" fill="hold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700" fill="hold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2000"/>
                            </p:stCondLst>
                            <p:childTnLst>
                              <p:par>
                                <p:cTn id="5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3000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3000" fill="hold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700" fill="hold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5000"/>
                            </p:stCondLst>
                            <p:childTnLst>
                              <p:par>
                                <p:cTn id="6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3000"/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3000" fill="hold"/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700" fill="hold"/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8000"/>
                            </p:stCondLst>
                            <p:childTnLst>
                              <p:par>
                                <p:cTn id="6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3000"/>
                                        <p:tgtEl>
                                          <p:spTgt spid="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3000" fill="hold"/>
                                        <p:tgtEl>
                                          <p:spTgt spid="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700" fill="hold"/>
                                        <p:tgtEl>
                                          <p:spTgt spid="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1000"/>
                            </p:stCondLst>
                            <p:childTnLst>
                              <p:par>
                                <p:cTn id="7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3000"/>
                                        <p:tgtEl>
                                          <p:spTgt spid="2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3000" fill="hold"/>
                                        <p:tgtEl>
                                          <p:spTgt spid="2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700" fill="hold"/>
                                        <p:tgtEl>
                                          <p:spTgt spid="2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4000"/>
                            </p:stCondLst>
                            <p:childTnLst>
                              <p:par>
                                <p:cTn id="8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3000"/>
                                        <p:tgtEl>
                                          <p:spTgt spid="2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3000" fill="hold"/>
                                        <p:tgtEl>
                                          <p:spTgt spid="2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700" fill="hold"/>
                                        <p:tgtEl>
                                          <p:spTgt spid="2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7000"/>
                            </p:stCondLst>
                            <p:childTnLst>
                              <p:par>
                                <p:cTn id="8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3000"/>
                                        <p:tgtEl>
                                          <p:spTgt spid="2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3000" fill="hold"/>
                                        <p:tgtEl>
                                          <p:spTgt spid="2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700" fill="hold"/>
                                        <p:tgtEl>
                                          <p:spTgt spid="2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Oklahomans Respo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1371600" y="33526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ults Ar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004646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1" name=""/>
          <p:cNvGraphicFramePr/>
          <p:nvPr/>
        </p:nvGraphicFramePr>
        <p:xfrm>
          <a:off x="2209680" y="-685800"/>
          <a:ext cx="609624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-685800"/>
                    <a:ext cx="609624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3" name=""/>
          <p:cNvGraphicFramePr/>
          <p:nvPr/>
        </p:nvGraphicFramePr>
        <p:xfrm>
          <a:off x="0" y="2590920"/>
          <a:ext cx="7010280" cy="2184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2590920"/>
                    <a:ext cx="7010280" cy="21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85" name="" descr=""/>
          <p:cNvPicPr/>
          <p:nvPr/>
        </p:nvPicPr>
        <p:blipFill>
          <a:blip r:embed="rId5"/>
          <a:stretch/>
        </p:blipFill>
        <p:spPr>
          <a:xfrm>
            <a:off x="0" y="0"/>
            <a:ext cx="1685880" cy="2362320"/>
          </a:xfrm>
          <a:prstGeom prst="rect">
            <a:avLst/>
          </a:prstGeom>
          <a:ln w="9360">
            <a:solidFill>
              <a:srgbClr val="333300"/>
            </a:solidFill>
            <a:miter/>
          </a:ln>
        </p:spPr>
      </p:pic>
      <p:graphicFrame>
        <p:nvGraphicFramePr>
          <p:cNvPr id="286" name=""/>
          <p:cNvGraphicFramePr/>
          <p:nvPr/>
        </p:nvGraphicFramePr>
        <p:xfrm>
          <a:off x="3505320" y="4451400"/>
          <a:ext cx="5638680" cy="2406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8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505320" y="4451400"/>
                    <a:ext cx="5638680" cy="24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0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5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004646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8" name=""/>
          <p:cNvGraphicFramePr/>
          <p:nvPr/>
        </p:nvGraphicFramePr>
        <p:xfrm>
          <a:off x="1676520" y="3048120"/>
          <a:ext cx="7467480" cy="279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3048120"/>
                    <a:ext cx="7467480" cy="279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0" name=""/>
          <p:cNvGraphicFramePr/>
          <p:nvPr/>
        </p:nvGraphicFramePr>
        <p:xfrm>
          <a:off x="152280" y="-533520"/>
          <a:ext cx="7720200" cy="3299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-533520"/>
                    <a:ext cx="7720200" cy="32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2" name=""/>
          <p:cNvSpPr/>
          <p:nvPr/>
        </p:nvSpPr>
        <p:spPr>
          <a:xfrm>
            <a:off x="-13680" y="6143760"/>
            <a:ext cx="591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Arial"/>
              </a:rPr>
              <a:t>*Published in April 2007 by the National Center for Educational Statist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0"/>
                            </p:stCondLst>
                            <p:childTnLst>
                              <p:par>
                                <p:cTn id="125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004646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3" name=""/>
          <p:cNvGraphicFramePr/>
          <p:nvPr/>
        </p:nvGraphicFramePr>
        <p:xfrm>
          <a:off x="533520" y="4114800"/>
          <a:ext cx="822960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114800"/>
                    <a:ext cx="822960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5" name=""/>
          <p:cNvGraphicFramePr/>
          <p:nvPr/>
        </p:nvGraphicFramePr>
        <p:xfrm>
          <a:off x="1014480" y="-142920"/>
          <a:ext cx="7151760" cy="3490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14480" y="-142920"/>
                    <a:ext cx="7151760" cy="34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004646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304920" y="0"/>
          <a:ext cx="8618400" cy="32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0"/>
                    <a:ext cx="8618400" cy="32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99" name="" descr=""/>
          <p:cNvPicPr/>
          <p:nvPr/>
        </p:nvPicPr>
        <p:blipFill>
          <a:blip r:embed="rId3"/>
          <a:stretch/>
        </p:blipFill>
        <p:spPr>
          <a:xfrm>
            <a:off x="6724800" y="3200400"/>
            <a:ext cx="2419200" cy="3657600"/>
          </a:xfrm>
          <a:prstGeom prst="rect">
            <a:avLst/>
          </a:prstGeom>
          <a:ln w="28440">
            <a:solidFill>
              <a:srgbClr val="00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120" y="1371240"/>
            <a:ext cx="815364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nline High Schools &amp; the Future of High School Diplom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6840" y="3581280"/>
            <a:ext cx="807732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Carrie Allday,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Erica Burns, Betsy Kisling, Stacy Meldrum,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Andre Washing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" dur="8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" dur="8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" dur="8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0" name=""/>
          <p:cNvGraphicFramePr/>
          <p:nvPr/>
        </p:nvGraphicFramePr>
        <p:xfrm>
          <a:off x="457200" y="-609480"/>
          <a:ext cx="8381880" cy="317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-609480"/>
                    <a:ext cx="8381880" cy="317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02" name="" descr=""/>
          <p:cNvPicPr/>
          <p:nvPr/>
        </p:nvPicPr>
        <p:blipFill>
          <a:blip r:embed="rId3"/>
          <a:stretch/>
        </p:blipFill>
        <p:spPr>
          <a:xfrm>
            <a:off x="152280" y="2514600"/>
            <a:ext cx="3333960" cy="434340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4"/>
          <a:stretch/>
        </p:blipFill>
        <p:spPr>
          <a:xfrm>
            <a:off x="6321600" y="2590920"/>
            <a:ext cx="2822400" cy="4267080"/>
          </a:xfrm>
          <a:prstGeom prst="rect">
            <a:avLst/>
          </a:prstGeom>
          <a:ln w="28440">
            <a:solidFill>
              <a:srgbClr val="00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1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Oklahoma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0% of respondents are open to Virtual Schools even though 59% stated they had “not that familiar with” or had “never heard of” virtual, cyber, or online schoo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1% are not satisfied with the current public school system.  The figure raises to 51% when excluding the “undecided” respon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OK is lagging in online education possibiliti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900 OK Students </a:t>
            </a:r>
            <a:r>
              <a:rPr b="0" i="1" lang="en-US" sz="2800" spc="-1" strike="noStrike">
                <a:solidFill>
                  <a:srgbClr val="ffff66"/>
                </a:solidFill>
                <a:latin typeface="Baskerville Old Face"/>
              </a:rPr>
              <a:t>VS.</a:t>
            </a: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 50,000 Florida Virtual Academy Students completing 90,000 courses in 2007/8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Stacy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Online Learning in Practi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2" descr=""/>
          <p:cNvPicPr/>
          <p:nvPr/>
        </p:nvPicPr>
        <p:blipFill>
          <a:blip r:embed="rId1"/>
          <a:srcRect l="0" t="22642" r="6249" b="5119"/>
          <a:stretch/>
        </p:blipFill>
        <p:spPr>
          <a:xfrm>
            <a:off x="0" y="1752480"/>
            <a:ext cx="9144000" cy="5105520"/>
          </a:xfrm>
          <a:prstGeom prst="rect">
            <a:avLst/>
          </a:prstGeom>
          <a:ln w="0">
            <a:noFill/>
          </a:ln>
        </p:spPr>
      </p:pic>
      <p:sp>
        <p:nvSpPr>
          <p:cNvPr id="309" name="Rectangle 2"/>
          <p:cNvSpPr/>
          <p:nvPr/>
        </p:nvSpPr>
        <p:spPr>
          <a:xfrm>
            <a:off x="0" y="3049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line Learning in Prac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Butler Tech Online - Hamilton, Oh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nline Learning in 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One of the first online high schools in the coun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Offers a variety of options for 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Full-time, part-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Offers in conjunction with Academies</a:t>
            </a:r>
            <a:br>
              <a:rPr sz="2800"/>
            </a:b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butlertech.org/btol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Picture 2" descr=""/>
          <p:cNvPicPr/>
          <p:nvPr/>
        </p:nvPicPr>
        <p:blipFill>
          <a:blip r:embed="rId1"/>
          <a:srcRect l="0" t="22642" r="6249" b="2965"/>
          <a:stretch/>
        </p:blipFill>
        <p:spPr>
          <a:xfrm>
            <a:off x="0" y="1600200"/>
            <a:ext cx="9144000" cy="5257800"/>
          </a:xfrm>
          <a:prstGeom prst="rect">
            <a:avLst/>
          </a:prstGeom>
          <a:ln w="0">
            <a:noFill/>
          </a:ln>
        </p:spPr>
      </p:pic>
      <p:sp>
        <p:nvSpPr>
          <p:cNvPr id="315" name="Rectangle 4"/>
          <p:cNvSpPr/>
          <p:nvPr/>
        </p:nvSpPr>
        <p:spPr>
          <a:xfrm>
            <a:off x="0" y="3049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line Learning in Prac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Oklahoma Virtual High Schools – Oklahoma 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nline Learning in 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One of the first online high schools in Oklaho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Owned by Advanced Academ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Curriculum delivered in a variety of ways online (lecture, videos, PowerPoin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Students have a quick feeling of “success” because of frequent feedb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2" descr=""/>
          <p:cNvPicPr/>
          <p:nvPr/>
        </p:nvPicPr>
        <p:blipFill>
          <a:blip r:embed="rId1"/>
          <a:srcRect l="0" t="22642" r="6249" b="2965"/>
          <a:stretch/>
        </p:blipFill>
        <p:spPr>
          <a:xfrm>
            <a:off x="0" y="1600200"/>
            <a:ext cx="9144000" cy="5257800"/>
          </a:xfrm>
          <a:prstGeom prst="rect">
            <a:avLst/>
          </a:prstGeom>
          <a:ln w="0">
            <a:noFill/>
          </a:ln>
        </p:spPr>
      </p:pic>
      <p:sp>
        <p:nvSpPr>
          <p:cNvPr id="319" name="Rectangle 2"/>
          <p:cNvSpPr/>
          <p:nvPr/>
        </p:nvSpPr>
        <p:spPr>
          <a:xfrm>
            <a:off x="0" y="3049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line Learning in Prac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Tri-County Tech Center – Bartlesville, 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nline Learning in 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Offers online learning through Advanced Academ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Utilized when students can’t fit an academic course in their schedule when enrolled at Tri-Coun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One lab available to support 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Free to student if they complete the cour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Comic Sans MS"/>
              </a:rPr>
              <a:t>Andr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uccess Rates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tructur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Definitions &amp; Co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National Trends &amp; Oklahoma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Online Learning in Prac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Success Rates &amp;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Faculty Development Quality &amp; Future Foreca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3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State of Oklahoma Virtual High School System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>
            <a:hlinkClick r:id="" action="ppaction://hlinkshowjump?jump=nextslide"/>
          </p:cNvPr>
          <p:cNvSpPr/>
          <p:nvPr/>
        </p:nvSpPr>
        <p:spPr>
          <a:xfrm>
            <a:off x="1981080" y="914400"/>
            <a:ext cx="4648320" cy="838080"/>
          </a:xfrm>
          <a:custGeom>
            <a:avLst/>
            <a:gdLst>
              <a:gd name="textAreaLeft" fmla="*/ 54000 w 4648320"/>
              <a:gd name="textAreaRight" fmla="*/ 4594320 w 4648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119760" h="21600">
                <a:moveTo>
                  <a:pt x="0" y="0"/>
                </a:moveTo>
                <a:lnTo>
                  <a:pt x="119760" y="0"/>
                </a:lnTo>
                <a:lnTo>
                  <a:pt x="119760" y="21600"/>
                </a:lnTo>
                <a:lnTo>
                  <a:pt x="0" y="21600"/>
                </a:lnTo>
                <a:close/>
              </a:path>
              <a:path fill="lightenLess" w="119760" h="21600">
                <a:moveTo>
                  <a:pt x="0" y="0"/>
                </a:moveTo>
                <a:lnTo>
                  <a:pt x="119760" y="0"/>
                </a:lnTo>
                <a:lnTo>
                  <a:pt x="118360" y="1400"/>
                </a:lnTo>
                <a:lnTo>
                  <a:pt x="1400" y="1400"/>
                </a:lnTo>
                <a:close/>
              </a:path>
              <a:path fill="darken" w="119760" h="21600">
                <a:moveTo>
                  <a:pt x="119760" y="0"/>
                </a:moveTo>
                <a:lnTo>
                  <a:pt x="119760" y="21600"/>
                </a:lnTo>
                <a:lnTo>
                  <a:pt x="118360" y="20200"/>
                </a:lnTo>
                <a:lnTo>
                  <a:pt x="118360" y="1400"/>
                </a:lnTo>
                <a:close/>
              </a:path>
              <a:path fill="darkenLess" w="119760" h="21600">
                <a:moveTo>
                  <a:pt x="1197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8360" y="20200"/>
                </a:lnTo>
                <a:close/>
              </a:path>
              <a:path fill="lighten" w="1197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Advanced Academics, Inc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>
            <a:hlinkClick r:id="rId2" action="ppaction://hlinksldjump"/>
          </p:cNvPr>
          <p:cNvSpPr/>
          <p:nvPr/>
        </p:nvSpPr>
        <p:spPr>
          <a:xfrm>
            <a:off x="2514600" y="2057400"/>
            <a:ext cx="3657600" cy="685800"/>
          </a:xfrm>
          <a:custGeom>
            <a:avLst/>
            <a:gdLst>
              <a:gd name="textAreaLeft" fmla="*/ 44280 w 3657600"/>
              <a:gd name="textAreaRight" fmla="*/ 3613320 w 36576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115151" h="21600">
                <a:moveTo>
                  <a:pt x="0" y="0"/>
                </a:moveTo>
                <a:lnTo>
                  <a:pt x="115151" y="0"/>
                </a:lnTo>
                <a:lnTo>
                  <a:pt x="115151" y="21600"/>
                </a:lnTo>
                <a:lnTo>
                  <a:pt x="0" y="21600"/>
                </a:lnTo>
                <a:close/>
              </a:path>
              <a:path fill="lightenLess" w="115151" h="21600">
                <a:moveTo>
                  <a:pt x="0" y="0"/>
                </a:moveTo>
                <a:lnTo>
                  <a:pt x="115151" y="0"/>
                </a:lnTo>
                <a:lnTo>
                  <a:pt x="113751" y="1400"/>
                </a:lnTo>
                <a:lnTo>
                  <a:pt x="1400" y="1400"/>
                </a:lnTo>
                <a:close/>
              </a:path>
              <a:path fill="darken" w="115151" h="21600">
                <a:moveTo>
                  <a:pt x="115151" y="0"/>
                </a:moveTo>
                <a:lnTo>
                  <a:pt x="115151" y="21600"/>
                </a:lnTo>
                <a:lnTo>
                  <a:pt x="113751" y="20200"/>
                </a:lnTo>
                <a:lnTo>
                  <a:pt x="113751" y="1400"/>
                </a:lnTo>
                <a:close/>
              </a:path>
              <a:path fill="darkenLess" w="115151" h="21600">
                <a:moveTo>
                  <a:pt x="1151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3751" y="20200"/>
                </a:lnTo>
                <a:close/>
              </a:path>
              <a:path fill="lighten" w="1151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rtual High Schoo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rastructu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676520" y="3200400"/>
            <a:ext cx="1523880" cy="533520"/>
          </a:xfrm>
          <a:custGeom>
            <a:avLst/>
            <a:gdLst>
              <a:gd name="textAreaLeft" fmla="*/ 34560 w 1523880"/>
              <a:gd name="textAreaRight" fmla="*/ 1489320 w 15238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61669" h="21600">
                <a:moveTo>
                  <a:pt x="0" y="0"/>
                </a:moveTo>
                <a:lnTo>
                  <a:pt x="61669" y="0"/>
                </a:lnTo>
                <a:lnTo>
                  <a:pt x="61669" y="21600"/>
                </a:lnTo>
                <a:lnTo>
                  <a:pt x="0" y="21600"/>
                </a:lnTo>
                <a:close/>
              </a:path>
              <a:path fill="lightenLess" w="61669" h="21600">
                <a:moveTo>
                  <a:pt x="0" y="0"/>
                </a:moveTo>
                <a:lnTo>
                  <a:pt x="61669" y="0"/>
                </a:lnTo>
                <a:lnTo>
                  <a:pt x="60269" y="1400"/>
                </a:lnTo>
                <a:lnTo>
                  <a:pt x="1400" y="1400"/>
                </a:lnTo>
                <a:close/>
              </a:path>
              <a:path fill="darken" w="61669" h="21600">
                <a:moveTo>
                  <a:pt x="61669" y="0"/>
                </a:moveTo>
                <a:lnTo>
                  <a:pt x="61669" y="21600"/>
                </a:lnTo>
                <a:lnTo>
                  <a:pt x="60269" y="20200"/>
                </a:lnTo>
                <a:lnTo>
                  <a:pt x="60269" y="1400"/>
                </a:lnTo>
                <a:close/>
              </a:path>
              <a:path fill="darkenLess" w="61669" h="21600">
                <a:moveTo>
                  <a:pt x="616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269" y="20200"/>
                </a:lnTo>
                <a:close/>
              </a:path>
              <a:path fill="lighten" w="616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klahoma C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676520" y="3809880"/>
            <a:ext cx="1523880" cy="533520"/>
          </a:xfrm>
          <a:custGeom>
            <a:avLst/>
            <a:gdLst>
              <a:gd name="textAreaLeft" fmla="*/ 34560 w 1523880"/>
              <a:gd name="textAreaRight" fmla="*/ 1489320 w 15238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61669" h="21600">
                <a:moveTo>
                  <a:pt x="0" y="0"/>
                </a:moveTo>
                <a:lnTo>
                  <a:pt x="61669" y="0"/>
                </a:lnTo>
                <a:lnTo>
                  <a:pt x="61669" y="21600"/>
                </a:lnTo>
                <a:lnTo>
                  <a:pt x="0" y="21600"/>
                </a:lnTo>
                <a:close/>
              </a:path>
              <a:path fill="lightenLess" w="61669" h="21600">
                <a:moveTo>
                  <a:pt x="0" y="0"/>
                </a:moveTo>
                <a:lnTo>
                  <a:pt x="61669" y="0"/>
                </a:lnTo>
                <a:lnTo>
                  <a:pt x="60269" y="1400"/>
                </a:lnTo>
                <a:lnTo>
                  <a:pt x="1400" y="1400"/>
                </a:lnTo>
                <a:close/>
              </a:path>
              <a:path fill="darken" w="61669" h="21600">
                <a:moveTo>
                  <a:pt x="61669" y="0"/>
                </a:moveTo>
                <a:lnTo>
                  <a:pt x="61669" y="21600"/>
                </a:lnTo>
                <a:lnTo>
                  <a:pt x="60269" y="20200"/>
                </a:lnTo>
                <a:lnTo>
                  <a:pt x="60269" y="1400"/>
                </a:lnTo>
                <a:close/>
              </a:path>
              <a:path fill="darkenLess" w="61669" h="21600">
                <a:moveTo>
                  <a:pt x="616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269" y="20200"/>
                </a:lnTo>
                <a:close/>
              </a:path>
              <a:path fill="lighten" w="616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um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676520" y="4495680"/>
            <a:ext cx="1523880" cy="533520"/>
          </a:xfrm>
          <a:custGeom>
            <a:avLst/>
            <a:gdLst>
              <a:gd name="textAreaLeft" fmla="*/ 34560 w 1523880"/>
              <a:gd name="textAreaRight" fmla="*/ 1489320 w 15238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61669" h="21600">
                <a:moveTo>
                  <a:pt x="0" y="0"/>
                </a:moveTo>
                <a:lnTo>
                  <a:pt x="61669" y="0"/>
                </a:lnTo>
                <a:lnTo>
                  <a:pt x="61669" y="21600"/>
                </a:lnTo>
                <a:lnTo>
                  <a:pt x="0" y="21600"/>
                </a:lnTo>
                <a:close/>
              </a:path>
              <a:path fill="lightenLess" w="61669" h="21600">
                <a:moveTo>
                  <a:pt x="0" y="0"/>
                </a:moveTo>
                <a:lnTo>
                  <a:pt x="61669" y="0"/>
                </a:lnTo>
                <a:lnTo>
                  <a:pt x="60269" y="1400"/>
                </a:lnTo>
                <a:lnTo>
                  <a:pt x="1400" y="1400"/>
                </a:lnTo>
                <a:close/>
              </a:path>
              <a:path fill="darken" w="61669" h="21600">
                <a:moveTo>
                  <a:pt x="61669" y="0"/>
                </a:moveTo>
                <a:lnTo>
                  <a:pt x="61669" y="21600"/>
                </a:lnTo>
                <a:lnTo>
                  <a:pt x="60269" y="20200"/>
                </a:lnTo>
                <a:lnTo>
                  <a:pt x="60269" y="1400"/>
                </a:lnTo>
                <a:close/>
              </a:path>
              <a:path fill="darkenLess" w="61669" h="21600">
                <a:moveTo>
                  <a:pt x="616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269" y="20200"/>
                </a:lnTo>
                <a:close/>
              </a:path>
              <a:path fill="lighten" w="616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ttsbu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676520" y="5181480"/>
            <a:ext cx="1523880" cy="533520"/>
          </a:xfrm>
          <a:custGeom>
            <a:avLst/>
            <a:gdLst>
              <a:gd name="textAreaLeft" fmla="*/ 34560 w 1523880"/>
              <a:gd name="textAreaRight" fmla="*/ 1489320 w 15238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61669" h="21600">
                <a:moveTo>
                  <a:pt x="0" y="0"/>
                </a:moveTo>
                <a:lnTo>
                  <a:pt x="61669" y="0"/>
                </a:lnTo>
                <a:lnTo>
                  <a:pt x="61669" y="21600"/>
                </a:lnTo>
                <a:lnTo>
                  <a:pt x="0" y="21600"/>
                </a:lnTo>
                <a:close/>
              </a:path>
              <a:path fill="lightenLess" w="61669" h="21600">
                <a:moveTo>
                  <a:pt x="0" y="0"/>
                </a:moveTo>
                <a:lnTo>
                  <a:pt x="61669" y="0"/>
                </a:lnTo>
                <a:lnTo>
                  <a:pt x="60269" y="1400"/>
                </a:lnTo>
                <a:lnTo>
                  <a:pt x="1400" y="1400"/>
                </a:lnTo>
                <a:close/>
              </a:path>
              <a:path fill="darken" w="61669" h="21600">
                <a:moveTo>
                  <a:pt x="61669" y="0"/>
                </a:moveTo>
                <a:lnTo>
                  <a:pt x="61669" y="21600"/>
                </a:lnTo>
                <a:lnTo>
                  <a:pt x="60269" y="20200"/>
                </a:lnTo>
                <a:lnTo>
                  <a:pt x="60269" y="1400"/>
                </a:lnTo>
                <a:close/>
              </a:path>
              <a:path fill="darkenLess" w="61669" h="21600">
                <a:moveTo>
                  <a:pt x="616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269" y="20200"/>
                </a:lnTo>
                <a:close/>
              </a:path>
              <a:path fill="lighten" w="616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ed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676520" y="5867280"/>
            <a:ext cx="1523880" cy="533520"/>
          </a:xfrm>
          <a:custGeom>
            <a:avLst/>
            <a:gdLst>
              <a:gd name="textAreaLeft" fmla="*/ 34560 w 1523880"/>
              <a:gd name="textAreaRight" fmla="*/ 1489320 w 15238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61669" h="21600">
                <a:moveTo>
                  <a:pt x="0" y="0"/>
                </a:moveTo>
                <a:lnTo>
                  <a:pt x="61669" y="0"/>
                </a:lnTo>
                <a:lnTo>
                  <a:pt x="61669" y="21600"/>
                </a:lnTo>
                <a:lnTo>
                  <a:pt x="0" y="21600"/>
                </a:lnTo>
                <a:close/>
              </a:path>
              <a:path fill="lightenLess" w="61669" h="21600">
                <a:moveTo>
                  <a:pt x="0" y="0"/>
                </a:moveTo>
                <a:lnTo>
                  <a:pt x="61669" y="0"/>
                </a:lnTo>
                <a:lnTo>
                  <a:pt x="60269" y="1400"/>
                </a:lnTo>
                <a:lnTo>
                  <a:pt x="1400" y="1400"/>
                </a:lnTo>
                <a:close/>
              </a:path>
              <a:path fill="darken" w="61669" h="21600">
                <a:moveTo>
                  <a:pt x="61669" y="0"/>
                </a:moveTo>
                <a:lnTo>
                  <a:pt x="61669" y="21600"/>
                </a:lnTo>
                <a:lnTo>
                  <a:pt x="60269" y="20200"/>
                </a:lnTo>
                <a:lnTo>
                  <a:pt x="60269" y="1400"/>
                </a:lnTo>
                <a:close/>
              </a:path>
              <a:path fill="darkenLess" w="61669" h="21600">
                <a:moveTo>
                  <a:pt x="616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269" y="20200"/>
                </a:lnTo>
                <a:close/>
              </a:path>
              <a:path fill="lighten" w="616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aho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28600" y="2209680"/>
            <a:ext cx="21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 School District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304560" y="2590920"/>
            <a:ext cx="1904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209680" y="25909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343400" y="17524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3"/>
          <a:stretch/>
        </p:blipFill>
        <p:spPr>
          <a:xfrm>
            <a:off x="2743200" y="21337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4"/>
          <a:stretch/>
        </p:blipFill>
        <p:spPr>
          <a:xfrm>
            <a:off x="5486400" y="21337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>
            <a:off x="5334120" y="2895480"/>
            <a:ext cx="0" cy="83844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5562720" y="281916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800600" y="3962520"/>
            <a:ext cx="1447920" cy="132876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6705720" y="4343400"/>
            <a:ext cx="20574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rtual High Sch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9-12 gra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6248520" y="472428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3276720" y="350532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3276720" y="6172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733920" y="3505320"/>
            <a:ext cx="0" cy="2666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3733560" y="4648320"/>
            <a:ext cx="1143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809880" y="3886200"/>
            <a:ext cx="1067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d of Instruction Ex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3276720" y="40384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flipH="1">
            <a:off x="3276720" y="47242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3276720" y="54100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114800"/>
            <a:ext cx="874440" cy="84780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/>
          <p:nvPr/>
        </p:nvSpPr>
        <p:spPr>
          <a:xfrm>
            <a:off x="1523880" y="3276720"/>
            <a:ext cx="0" cy="29718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1294920" y="46483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80880" y="3124080"/>
            <a:ext cx="838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igh School Diplo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762120" y="37339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 flipH="1">
            <a:off x="1523880" y="6019920"/>
            <a:ext cx="152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523880" y="4038480"/>
            <a:ext cx="152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 flipH="1">
            <a:off x="1523880" y="4724280"/>
            <a:ext cx="152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1523880" y="5410080"/>
            <a:ext cx="152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1523880" y="3429000"/>
            <a:ext cx="152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172200" y="31240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igh Speed Inter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5791320" y="335268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Advanced Academics, Inc</a:t>
            </a:r>
            <a:br>
              <a:rPr sz="4000"/>
            </a:br>
            <a:r>
              <a:rPr b="0" i="1" lang="en-US" sz="3200" spc="-1" strike="noStrike">
                <a:solidFill>
                  <a:srgbClr val="ffff66"/>
                </a:solidFill>
                <a:latin typeface="Arial"/>
              </a:rPr>
              <a:t>Online learning simplifie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vanced Academics, Inc., a subsidiary of DeVry Inc. (NYSE:DV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rporate office in OKC (Bricktown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ompany was founded by educators who have a passion for student success. Since its inception in 2000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vanced Academics has implemented online learning programs in schools and districts across 30 sta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>
            <a:hlinkClick r:id="" action="ppaction://hlinkshowjump?jump=nextslide"/>
          </p:cNvPr>
          <p:cNvSpPr/>
          <p:nvPr/>
        </p:nvSpPr>
        <p:spPr>
          <a:xfrm>
            <a:off x="7467480" y="5562720"/>
            <a:ext cx="609840" cy="60948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13" h="21600">
                <a:moveTo>
                  <a:pt x="0" y="0"/>
                </a:moveTo>
                <a:lnTo>
                  <a:pt x="21613" y="0"/>
                </a:lnTo>
                <a:lnTo>
                  <a:pt x="21613" y="21600"/>
                </a:lnTo>
                <a:lnTo>
                  <a:pt x="0" y="21600"/>
                </a:lnTo>
                <a:close/>
              </a:path>
              <a:path fill="lightenLess" w="21613" h="21600">
                <a:moveTo>
                  <a:pt x="0" y="0"/>
                </a:moveTo>
                <a:lnTo>
                  <a:pt x="21613" y="0"/>
                </a:lnTo>
                <a:lnTo>
                  <a:pt x="20213" y="1400"/>
                </a:lnTo>
                <a:lnTo>
                  <a:pt x="1400" y="1400"/>
                </a:lnTo>
                <a:close/>
              </a:path>
              <a:path fill="darken" w="21613" h="21600">
                <a:moveTo>
                  <a:pt x="21613" y="0"/>
                </a:moveTo>
                <a:lnTo>
                  <a:pt x="21613" y="21600"/>
                </a:lnTo>
                <a:lnTo>
                  <a:pt x="20213" y="20200"/>
                </a:lnTo>
                <a:lnTo>
                  <a:pt x="20213" y="1400"/>
                </a:lnTo>
                <a:close/>
              </a:path>
              <a:path fill="darkenLess" w="21613" h="21600">
                <a:moveTo>
                  <a:pt x="21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3" y="20200"/>
                </a:lnTo>
                <a:close/>
              </a:path>
              <a:path fill="lighten" w="21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3" h="21600">
                <a:moveTo>
                  <a:pt x="3800" y="3794"/>
                </a:moveTo>
                <a:lnTo>
                  <a:pt x="17813" y="10800"/>
                </a:lnTo>
                <a:lnTo>
                  <a:pt x="380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2002, the company received regional accreditation as a diploma-granting institution from the North Central Association Commission on Accreditation (NC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national accreditation from the Commission on International and Trans-Regional Accreditation (CITA). We gained these accreditations in order to validate our proc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Advanced Academics, Inc</a:t>
            </a:r>
            <a:br>
              <a:rPr sz="4000"/>
            </a:br>
            <a:r>
              <a:rPr b="0" i="1" lang="en-US" sz="3200" spc="-1" strike="noStrike">
                <a:solidFill>
                  <a:srgbClr val="ffff66"/>
                </a:solidFill>
                <a:latin typeface="Arial"/>
              </a:rPr>
              <a:t>Online learning simplifie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>
            <a:hlinkClick r:id="rId1" action="ppaction://hlinksldjump"/>
          </p:cNvPr>
          <p:cNvSpPr/>
          <p:nvPr/>
        </p:nvSpPr>
        <p:spPr>
          <a:xfrm>
            <a:off x="7772400" y="5791320"/>
            <a:ext cx="609480" cy="53316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004646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Infrastructure </a:t>
            </a:r>
            <a:br>
              <a:rPr sz="4000"/>
            </a:br>
            <a:r>
              <a:rPr b="0" i="1" lang="en-US" sz="3200" spc="-1" strike="noStrike">
                <a:solidFill>
                  <a:srgbClr val="ffff66"/>
                </a:solidFill>
                <a:latin typeface="Arial"/>
              </a:rPr>
              <a:t>(cos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7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7,000,000 (Initial start up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, 500,000 (Annually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33520" y="3352680"/>
            <a:ext cx="8229600" cy="0"/>
          </a:xfrm>
          <a:prstGeom prst="line">
            <a:avLst/>
          </a:prstGeom>
          <a:ln w="38160">
            <a:solidFill>
              <a:srgbClr val="ffff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609480" y="3505320"/>
            <a:ext cx="822960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Arial"/>
                <a:ea typeface="Osaka"/>
              </a:rPr>
              <a:t>(Revenue) </a:t>
            </a:r>
            <a:r>
              <a:rPr b="0" i="1" lang="en-US" sz="1600" spc="-1" strike="noStrike">
                <a:solidFill>
                  <a:srgbClr val="ffff66"/>
                </a:solidFill>
                <a:latin typeface="Arial"/>
                <a:ea typeface="Osaka"/>
              </a:rPr>
              <a:t>Oklahoma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Osak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Osaka"/>
              </a:rPr>
              <a:t>4,500 per-student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Osaka"/>
              </a:rPr>
              <a:t>(average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Osak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Osaka"/>
              </a:rPr>
              <a:t>@ 945 stud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Osaka"/>
              </a:rPr>
              <a:t>= 4,252,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>
            <a:hlinkClick r:id="rId1" action="ppaction://hlinksldjump"/>
          </p:cNvPr>
          <p:cNvSpPr/>
          <p:nvPr/>
        </p:nvSpPr>
        <p:spPr>
          <a:xfrm>
            <a:off x="7696080" y="6019920"/>
            <a:ext cx="533520" cy="53316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gisl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te of Oklahoma Dept. of 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hool Bo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vanced Academic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ud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if full tim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1752480" y="685800"/>
            <a:ext cx="0" cy="5105520"/>
          </a:xfrm>
          <a:prstGeom prst="line">
            <a:avLst/>
          </a:prstGeom>
          <a:ln w="38160">
            <a:solidFill>
              <a:srgbClr val="ffff66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7391520" y="685800"/>
            <a:ext cx="0" cy="5105520"/>
          </a:xfrm>
          <a:prstGeom prst="line">
            <a:avLst/>
          </a:prstGeom>
          <a:ln w="38160">
            <a:solidFill>
              <a:srgbClr val="ffff66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419720" y="5257800"/>
            <a:ext cx="30456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 flipH="1">
            <a:off x="4419720" y="5257800"/>
            <a:ext cx="30456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>
            <a:hlinkClick r:id="rId1" action="ppaction://hlinksldjump"/>
          </p:cNvPr>
          <p:cNvSpPr/>
          <p:nvPr/>
        </p:nvSpPr>
        <p:spPr>
          <a:xfrm>
            <a:off x="8001000" y="6019920"/>
            <a:ext cx="609480" cy="53316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Retention Rates / Success Ra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Nationally </a:t>
            </a:r>
            <a:r>
              <a:rPr b="0" lang="en-US" sz="1200" spc="-1" strike="noStrike">
                <a:solidFill>
                  <a:srgbClr val="ffff66"/>
                </a:solidFill>
                <a:latin typeface="Arial"/>
              </a:rPr>
              <a:t>(week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umber of courses 8899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umber of enrolled in courses 74% (6,58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umber active 62% (5,51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Oklahoma </a:t>
            </a:r>
            <a:r>
              <a:rPr b="0" lang="en-US" sz="1200" spc="-1" strike="noStrike">
                <a:solidFill>
                  <a:srgbClr val="ffff66"/>
                </a:solidFill>
                <a:latin typeface="Arial"/>
              </a:rPr>
              <a:t>(week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umber of Students 9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umber of enrolled courses 296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% of enrolled courses that are active 8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% of active courses on track 56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% of enrolled courses completed 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>
            <a:hlinkClick r:id="rId1" action="ppaction://hlinksldjump"/>
          </p:cNvPr>
          <p:cNvSpPr/>
          <p:nvPr/>
        </p:nvSpPr>
        <p:spPr>
          <a:xfrm>
            <a:off x="8077320" y="5943600"/>
            <a:ext cx="533160" cy="53352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  <a:path fill="darken" w="21600" h="21615">
                <a:moveTo>
                  <a:pt x="10800" y="3844"/>
                </a:moveTo>
                <a:lnTo>
                  <a:pt x="13376" y="6455"/>
                </a:lnTo>
                <a:lnTo>
                  <a:pt x="13376" y="4715"/>
                </a:lnTo>
                <a:lnTo>
                  <a:pt x="15152" y="4715"/>
                </a:lnTo>
                <a:lnTo>
                  <a:pt x="15152" y="8231"/>
                </a:lnTo>
                <a:lnTo>
                  <a:pt x="17763" y="10807"/>
                </a:lnTo>
                <a:lnTo>
                  <a:pt x="16109" y="10807"/>
                </a:lnTo>
                <a:lnTo>
                  <a:pt x="16109" y="17997"/>
                </a:lnTo>
                <a:lnTo>
                  <a:pt x="5491" y="17997"/>
                </a:lnTo>
                <a:lnTo>
                  <a:pt x="5491" y="10807"/>
                </a:lnTo>
                <a:lnTo>
                  <a:pt x="3837" y="10807"/>
                </a:lnTo>
                <a:close/>
              </a:path>
              <a:path fill="darkenLess" w="21600" h="21615">
                <a:moveTo>
                  <a:pt x="13376" y="6455"/>
                </a:moveTo>
                <a:lnTo>
                  <a:pt x="13376" y="4715"/>
                </a:lnTo>
                <a:lnTo>
                  <a:pt x="15152" y="4715"/>
                </a:lnTo>
                <a:lnTo>
                  <a:pt x="15152" y="8231"/>
                </a:lnTo>
                <a:close/>
              </a:path>
              <a:path fill="darkenLess" w="21600" h="21615">
                <a:moveTo>
                  <a:pt x="9877" y="14306"/>
                </a:moveTo>
                <a:lnTo>
                  <a:pt x="11723" y="14306"/>
                </a:lnTo>
                <a:lnTo>
                  <a:pt x="11723" y="17997"/>
                </a:lnTo>
                <a:lnTo>
                  <a:pt x="16109" y="17997"/>
                </a:lnTo>
                <a:lnTo>
                  <a:pt x="16109" y="10807"/>
                </a:lnTo>
                <a:lnTo>
                  <a:pt x="5491" y="10807"/>
                </a:lnTo>
                <a:lnTo>
                  <a:pt x="5491" y="17997"/>
                </a:lnTo>
                <a:lnTo>
                  <a:pt x="9877" y="17997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Eligi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PA 2.00 (mi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 IEP'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ood EOI (End of Instruction) s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 in OKC public schools (must be a OKC high school drop out or ask for an open transf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nef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line high school diploma will be the same as traditional stud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y take year book picture, attend prom, walk at graduation etc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762120" y="3886200"/>
            <a:ext cx="7772400" cy="0"/>
          </a:xfrm>
          <a:prstGeom prst="line">
            <a:avLst/>
          </a:prstGeom>
          <a:ln w="28440">
            <a:solidFill>
              <a:srgbClr val="ffff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>
            <a:hlinkClick r:id="rId1" action="ppaction://hlinksldjump"/>
          </p:cNvPr>
          <p:cNvSpPr/>
          <p:nvPr/>
        </p:nvSpPr>
        <p:spPr>
          <a:xfrm>
            <a:off x="8001000" y="6019920"/>
            <a:ext cx="609480" cy="53316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Betsy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Faculty Development Quality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Future Forecas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aculty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28600" y="1904760"/>
            <a:ext cx="8610480" cy="41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Online instructor’s role requires a paradigm shift in perceptions of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Baskerville Old Face"/>
              </a:rPr>
              <a:t>instructional time &amp; space</a:t>
            </a:r>
            <a:r>
              <a:rPr b="1" lang="en-US" sz="2800" spc="-1" strike="noStrike">
                <a:solidFill>
                  <a:srgbClr val="ffffff"/>
                </a:solidFill>
                <a:latin typeface="Baskerville Old Face"/>
              </a:rPr>
              <a:t>,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ffff66"/>
                </a:solidFill>
                <a:uFillTx/>
                <a:latin typeface="Baskerville Old Face"/>
              </a:rPr>
              <a:t>virtual management techniques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, &amp;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Baskerville Old Face"/>
              </a:rPr>
              <a:t>ways of engaging students through virtual communications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.”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(Easton, 2003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Systems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Just-in-Time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Quality Indicators of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stance Edu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Based on results of a systematic literature review of 160 articles and twelve book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240" y="2286000"/>
            <a:ext cx="883908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Student-teacher inte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Prompt feedback from instru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Program evaluation &amp; 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Clear analysis of aud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Documented technology plan to ensure 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Institutional support &amp; institutional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Course structure guide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1"/>
                            </p:stCondLst>
                            <p:childTnLst>
                              <p:par>
                                <p:cTn id="168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001"/>
                            </p:stCondLst>
                            <p:childTnLst>
                              <p:par>
                                <p:cTn id="171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3503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4"/>
                            </p:stCondLst>
                            <p:childTnLst>
                              <p:par>
                                <p:cTn id="177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7505"/>
                            </p:stCondLst>
                            <p:childTnLst>
                              <p:par>
                                <p:cTn id="180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9506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arri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3110040"/>
            <a:ext cx="7772400" cy="298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Definit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Cos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ality Indicators of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tance Education (cont’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839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Active learning techn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Respect diverse ways of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Faculty support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Strong rationale for distance education that correlates to the mission of the instit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Appropriate tools and 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Reliability of 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Implementation of guidelines for course development and review of instructional materials</a:t>
            </a:r>
            <a:br>
              <a:rPr sz="2800"/>
            </a:b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Chaney 2006) as quoted in Chaney, B.H., et al. (2007). Development of an instrument to assess student opinions of the quality of distance education courses. </a:t>
            </a: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The American Journal of Distance Education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, 21(3), p. 145-16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3002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4003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0004"/>
                            </p:stCondLst>
                            <p:childTnLst>
                              <p:par>
                                <p:cTn id="201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1505"/>
                            </p:stCondLst>
                            <p:childTnLst>
                              <p:par>
                                <p:cTn id="204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2506"/>
                            </p:stCondLst>
                            <p:childTnLst>
                              <p:par>
                                <p:cTn id="207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7507"/>
                            </p:stCondLst>
                            <p:childTnLst>
                              <p:par>
                                <p:cTn id="210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asuring Qu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Quality Consid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Assess with a Rubr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California State University, Chico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A User’s Guide to Online Cour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www.nea.org/technology/distanced/highsch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How to Choose an Online High Sch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handout retrieved fro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distancelearn.about.com/od/virtualhighschools/a/OnlneHighQ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’s the bottom lin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 “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It has more to do with whether this is a good way for (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ch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) student to learn. To me, I look at online learning not as something that’s going to be the savior of education,” she said. “This is one alternative.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Angela Specketer, Principal of Minnesota Virtual Acade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(full-time virtual started in 200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uture Foreca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What do you see as the challeng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52280" y="1698480"/>
            <a:ext cx="8991720" cy="35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7604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  <a:ea typeface="Osaka"/>
              </a:rPr>
              <a:t>Meeting individual learner’s needs &amp;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diverse learning styles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  <a:ea typeface="Osak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17604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IEPs – truly customer foc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176040"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Active participation, engagement, motiv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176040"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Appropriate use of tools, technologies, methods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176040"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Oklahoma education poli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176040"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What el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Definitions &amp; Co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National Trends &amp; Oklahoma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Online Learning in Prac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Success Rates &amp;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Faculty Development Quality &amp; Future Foreca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828800" y="556272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ur Conclusion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327636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Online Learning is Her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an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 It is Here to Sta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So…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"/>
          <p:cNvSpPr/>
          <p:nvPr/>
        </p:nvSpPr>
        <p:spPr>
          <a:xfrm>
            <a:off x="4952880" y="4267080"/>
            <a:ext cx="3657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Get Over Yourself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2"/>
          <a:srcRect l="15835" t="0" r="8163" b="14006"/>
          <a:stretch/>
        </p:blipFill>
        <p:spPr>
          <a:xfrm>
            <a:off x="1600200" y="3200400"/>
            <a:ext cx="2347920" cy="3276720"/>
          </a:xfrm>
          <a:prstGeom prst="rect">
            <a:avLst/>
          </a:prstGeom>
          <a:ln w="19080">
            <a:solidFill>
              <a:srgbClr val="333399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</p:pic>
      <p:sp>
        <p:nvSpPr>
          <p:cNvPr id="407" name=""/>
          <p:cNvSpPr/>
          <p:nvPr/>
        </p:nvSpPr>
        <p:spPr>
          <a:xfrm>
            <a:off x="304920" y="0"/>
            <a:ext cx="281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clusio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41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7100"/>
                            </p:stCondLst>
                            <p:childTnLst>
                              <p:par>
                                <p:cTn id="227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4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4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8100"/>
                            </p:stCondLst>
                            <p:childTnLst>
                              <p:par>
                                <p:cTn id="23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0100"/>
                            </p:stCondLst>
                            <p:childTnLst>
                              <p:par>
                                <p:cTn id="25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3" dur="2000" fill="hold"/>
                                        <p:tgtEl>
                                          <p:spTgt spid="40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Audience Respons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2438280" y="3044520"/>
            <a:ext cx="4572000" cy="201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Questions 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omments 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Concerns #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25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0" dur="25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1" dur="25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2" dur="25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625"/>
                            </p:stCondLst>
                            <p:childTnLst>
                              <p:par>
                                <p:cTn id="26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25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6" dur="250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7" dur="250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8" dur="250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3125"/>
                            </p:stCondLst>
                            <p:childTnLst>
                              <p:par>
                                <p:cTn id="27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25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2" dur="250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3" dur="250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4" dur="250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are Online High School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609120" y="1980720"/>
            <a:ext cx="75438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Public or private schools that allow students to work with their curriculum &amp; teachers using the Internet, rather than in a traditional classroom set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n option for students who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Need to stay home for health reas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Desire to work at their own 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Find themselves unable to concentrate on their work in the traditional se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Need to schedule their learning around a care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3908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nline High School Edu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Types of Online High Schoo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1- Public/Char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2- Priv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3- University Affiliat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st of Public Online HS in 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152280" y="13712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Currently OK has 900 students on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#s continue to increase based on how many students the 6 partnering schls will t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Free for full time students (6 courses/semest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Part Time Students pay $400 per cou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Generally provide curriculum &amp; other materials at no c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Some offer computer leases &amp; pay for student internet conn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st of Private Online H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228600" y="160020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No Private online in 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Tend to be expens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(possible to find non-profit program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Some are as much as $16,000 for a 4-year diploma progra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Possible to find low-cost alternativ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like Penn Foster complete diploma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approx. $1,29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1T14:35:21Z</dcterms:created>
  <dc:creator>Erica Burns</dc:creator>
  <dc:description/>
  <dc:language>en-US</dc:language>
  <cp:lastModifiedBy>Andre Washington</cp:lastModifiedBy>
  <dcterms:modified xsi:type="dcterms:W3CDTF">2008-10-20T23:41:06Z</dcterms:modified>
  <cp:revision>111</cp:revision>
  <dc:subject/>
  <dc:title>Online High Schools &amp; the Future of High School Diplomas</dc:title>
</cp:coreProperties>
</file>