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357-3A74-40D2-A410-C6FADA421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C3B-646C-4677-816E-4A4A09C6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46A-807A-4F95-A657-B3CE7834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AE79-B2EB-47CF-92F1-507BC7E2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327-58D3-417C-B6F0-5BA497CC8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00E-9CB5-4C94-805D-BFA06BA2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969-47A4-4D01-9E7B-492EEC260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97C-422B-46BB-97B4-AD086B5A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7CB-925F-4FB5-B952-8A80DC98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756-065E-439E-9E99-2F8C9D29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DC8-4645-4166-9AD2-25964DBA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4669-FEA1-4D32-9386-49F696D7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4DFC-EA77-4F93-B0DB-C7FA55A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9B2D-7A65-4871-A8BF-65C2C80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CA02-B396-4F22-825B-B34C1BC0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6A13-3005-4DAC-A1D0-682E70B5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2A2F-08AD-4699-AEAB-0FF2DB00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46B4-FE01-4C16-9D9F-E939956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FD5-BCF6-4796-8FFE-BFF11789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FEA1-8E8C-48CD-A80D-F8D87DD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4F6D-E365-4F22-9272-2368165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1D61-BAED-4A58-8534-638C9B5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E11B-526A-4277-9267-ED099202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7E1E-F227-4FBC-8E13-EDA3FAED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CC6D-72AD-437D-9341-8466B05B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D1DF-AB68-48C3-84CC-8FC2EA7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D961-D16E-4A76-AA1B-489977D2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BBE9-4CE8-4C21-8B45-78724ED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BE56-0856-4B7E-AF59-65938E29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B7B-3FD5-4167-9D6D-400CB7E7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A66F-939E-4A40-8FBE-A93C6F4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12A6-1535-490B-8D97-0A66342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6310-698A-4420-82BF-FF0DA07B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F8F8-4BA5-4339-B9BD-EC413C6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88AC-4A03-451C-918F-6C53047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1C84-28EC-436C-9CAD-AB6EDBEF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7A68-F428-41D2-845B-D8510D08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1D9C-7EA5-4D5F-90D2-54CCF296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4E08-46EA-46BC-A8C5-70865481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964F-74CA-450C-82D4-5B890FF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35F-4991-4DA8-A14F-86C39EA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1E4A-7A9D-4FA6-AB03-DF3BC31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1AB7-A078-4B81-BA75-DE1FF87E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8868-0D46-4124-9682-3FB8DE4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6A08-30BD-4DFE-A29D-5CA662B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1BCD-3314-4EA0-AB09-E981F7D0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A195-F6DF-43CF-9A29-CE152288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CF4D-37DD-44EA-84D1-30CE0652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CE2D-2172-4BA1-BF74-DA84364E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8491-CD1D-4EDB-A7F8-16E550C9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4731-D165-49A1-A443-793DB5CE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2BB-7D1B-4C02-8842-038E1026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FE9F-DCAB-424A-8391-24C186E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3620-D965-4795-81F0-0F4D396C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DE1FD-6CF0-4638-ACAB-7FF227C8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9B437-DF0F-4FE8-9B9C-03E82E2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C4D7-1D74-4618-974E-00496DD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828F-D7DC-4C04-A4F3-8FD88C0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0399-217E-4796-913A-715509A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A670-BC46-400F-8E53-B33E67AA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ECED-5F78-4F10-B70A-5FD60FAC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47A0-252B-4176-BAE8-21EDCC5F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87F-3D67-4369-93FA-1DD4EC8F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B0A8-A8B2-440B-A603-C98703C4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1265-7F19-45F8-A528-C5061E8D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9E33-B0F1-4D1F-B0B6-72BD927F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2205-A9B9-4D1C-8C40-B8A5FD9A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10A2-21E5-4110-B218-3C4AC56D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C883-7936-4F10-9BAD-812D20D0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AB9A-B0DD-4211-A3F5-91C27AE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FDED-0813-406E-87DB-AE3F5D8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7F3EA-338B-45B6-8E49-F155B43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BE01D-8EA9-4362-A4B7-339B27B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650-44B6-4421-A4AE-19A9A14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51175-2197-4C32-80AC-5E16632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0D192-4191-4D27-BA9C-44F06291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0ECE-8F98-4686-B1AF-AA623D2E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727-A7AC-4AE8-A8F4-075D9D1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76A-24EC-49DF-812B-3CF980E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F953-5C59-4331-8106-FFB465DC5C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646-C7D7-45C2-9001-A28F63DC8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7F1E-356E-4A97-895E-865104AEE4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49BE-40EA-42DB-8EE7-090180D6F7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19C-8C21-42D2-8616-BD1CE5271A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40A6-28F4-479E-BDA4-AB7391A227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3.xml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" Target="slide36.xml"/><Relationship Id="rId6" Type="http://schemas.openxmlformats.org/officeDocument/2006/relationships/image" Target="../media/image19.wmf"/><Relationship Id="rId7" Type="http://schemas.openxmlformats.org/officeDocument/2006/relationships/slide" Target="slide35.xm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6960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 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 Quality &amp; 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7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Andre Washington</cp:lastModifiedBy>
  <dcterms:modified xsi:type="dcterms:W3CDTF">2008-10-20T23:41:06Z</dcterms:modified>
  <cp:revision>111</cp:revision>
  <dc:subject/>
  <dc:title>Online High Schools &amp; the Future of High School Diplomas</dc:title>
</cp:coreProperties>
</file>