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1792-5DA2-4295-B250-E6FC4A1FC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504C-9239-46DA-AEBD-1A4476854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D300-BE8A-454E-9A96-A434D491F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6C8F-50AD-4D9F-8A12-CEE65B654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B266-3BF8-4C6C-BB74-BA5FCCD8A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A719-E043-4A5E-BCF5-E0F4A3F9B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64C7-B6DC-4DA4-B6DE-A56E5CD65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13E-2B0E-4DB0-80AE-1187BB94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251-F936-44AA-B79B-011C43B5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F3C-5886-4AA4-A0E2-31ED74C9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A89-B363-4002-90BB-95CCE2BC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40F8-589C-43F0-BA1D-5B38ADBC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8A36-8D58-4713-99B8-24FAD842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5AAD-F4A7-4765-835D-189E0615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85F3-3D6B-4F52-AF97-22766C9B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0EEA-1431-4B1A-8AB8-7DE823E9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7012-7B12-4433-BB2E-64EC18E9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4D96-FC6D-4FA5-8017-65949EA7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FD3-689B-49E0-866D-B390E566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D407-9C71-41C1-9618-446A0AEE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DF04-A0EF-409F-8A28-9E8F8173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D4B4-6236-4381-87C8-27FF2D03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E6C5-BDB3-4691-A810-12113C29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6D57-8890-4812-97DE-CF1C158A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55191-CCFB-4DF3-A417-5EC7E338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B9D0-9C72-4F3E-90F6-209BD11C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810D5-9390-4394-AEAB-A5448E56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7700-4070-4C1B-8632-3B640A45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92FBE-FDD2-44A4-985E-9B2BA621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F31-3F1A-411D-A997-BD9EEB47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4E1E5-4BF8-4BD9-B160-451F62C1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BAD6D-1273-430A-B396-A6C2FE00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32AD7-BDEE-4C26-B32F-0F9616AE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C190-9694-4E39-A7B7-D928628E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D7DDC-FCB9-4C07-AA9C-33DFC96D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E1A8C-69F5-4FFA-854A-06E531C9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BA135-E12C-4774-B5D5-C69661F7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38120-B19C-4348-BDB8-2723D514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D7A5F-4FCE-433D-A5BC-9AE97F1B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C530-F423-4D8F-89E3-D2F7D9AA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527-555E-4615-A28F-873FD29A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A10A9-4B52-46F8-97B1-08497532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28E91-D268-447C-AB6B-E04E2351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9A20-F199-4E4C-A0FD-D464F08B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A400E-4BD9-40AA-8691-F5A723E0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04305-EBB3-40A1-9B9A-2552616C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2B37A-7E74-4CBE-92EC-8FAE1FAF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087F9-CCA7-45AF-B71D-80226B03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0C97A-3305-4067-AC73-F398186E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75D21-FD4B-4787-B4F4-DC91D38E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7BD33-2B43-484E-93F6-ECE08E06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CA1-3A3E-4239-A878-C9A23F04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1187B-8E0F-45E5-B26E-93065D07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EBD99-0EE8-4890-9A1D-52B0E187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2EB83-2A9C-43EF-9417-6BAF7546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5D302-5093-45E2-82F1-F6C77611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9443D-BB81-4F1A-BF06-CF1F9694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0C071-7EE2-4F85-9231-1C0237BF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BA862-29D8-426C-876B-4A1871B7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40985-DE1B-4112-A36D-DD858B8A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512AA-9AF8-405C-95D3-93D8F372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F0B13-7646-4B9F-9561-75185EA1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A6C-EC3C-450E-A3B5-FDABCAA4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810FC-28E1-444F-9515-12A280F6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CA236-64D7-4834-9328-9DA56FBA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33D81-F248-4F94-9DEF-D73E0D80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B641F-6EB3-406B-B878-B4BEB591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06756-E8E2-402D-B51D-312BC98C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F3362-CF0C-4949-B12C-E5B09B86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F9588-C4D5-4EC2-A2AC-39039AA8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6CEEB-9D9E-49E9-A76D-72B10749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8F4BA-4D73-4801-B953-1F154D6F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C2B6F-22BD-4301-A8A8-71BBFEE1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4BD-877F-4173-9B72-218828B9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CAE82-83A8-427A-9FE1-38A9E6C3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BF6D8-8525-488F-B67D-EF200E62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AB04E-71A6-4C4B-B7CE-292FDFDA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A82-73B6-4204-9095-F13008B9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10A-B98D-4013-B158-D7941F4F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A268-591F-426F-8F3C-AD52BCA053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9A6D-5DBD-493B-B11C-7481156292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954B-408D-4B8C-B767-23343374FF0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C7FD-19A9-49D3-9CC9-2CEB92CB25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FD45-B52F-4A07-A888-71A56CAD952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15CE-2BAC-4B24-A877-FB167E036F0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3.xml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" Target="slide36.xml"/><Relationship Id="rId6" Type="http://schemas.openxmlformats.org/officeDocument/2006/relationships/image" Target="../media/image19.wmf"/><Relationship Id="rId7" Type="http://schemas.openxmlformats.org/officeDocument/2006/relationships/slide" Target="slide35.xml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 Quality &amp; 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1" action="ppaction://hlinksldjump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76960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1" action="ppaction://hlinksldjump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1" action="ppaction://hlinksldjump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" action="ppaction://hlinksldjump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 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 Quality &amp; 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7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Andre Washington</cp:lastModifiedBy>
  <dcterms:modified xsi:type="dcterms:W3CDTF">2008-10-20T23:41:06Z</dcterms:modified>
  <cp:revision>111</cp:revision>
  <dc:subject/>
  <dc:title>Online High Schools &amp; the Future of High School Diplomas</dc:title>
</cp:coreProperties>
</file>