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8E19-FBA0-4E87-8014-99AA2DB72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F866-DECD-428F-B487-64143605A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D55A-0EA2-48FB-95ED-7F82A464C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A48B-094D-4888-946D-6BFF77933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40EE-5387-4A91-AF93-7CFDD517C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4CE0-0BD5-42B1-AA15-A29816652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76EA-047D-41FE-A2E3-383E05D24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762120" y="6094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odyear in 2001 identified 9 instructor roles!  Content facilitator, technologist, designer, manager/administrator, process facilitator, advisor/counselor, assessor, resear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s approach to onlin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selors, enrollment process, ori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al desig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ject matter exp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assistants (assistance), tech, bookstore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us Technology, October 2008 “Just-in-Time Support identifies 8 best practices for providing support to online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itutionalize the basics – provide orientation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loaded Course Templ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sure faculty aren’t first responders for non-content related ques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st-in-Time Support  in development st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ntoring from experienced online instr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nk through pedagogy behind the technology tools-wikis, blogs, (why, how, wh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elop the above systems support (instructional tea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gin a COP for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INT OUT CHALLENGE AREAS – discussion point – what do you see as challeng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Quality Indicators of Distance Education Identified in the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sults of a systematic literature review of 160 articles and twelve boo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1(3), p. 145-16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dition, a study completed by the NEA and Blackboard Inc., (Institute for Higher Education Policy study commissioned by NEA and Blackboard) released in 2000, found 24 quality benchmarks for success in internet-based distance education.  Shimp, in an unpublished dissertation completed in December 2007, reviewed 278 articles published in 4 journals from 2000-2006 and found the same benchmarks and 2 additional benchmar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orientation to distance education courses o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 interaction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of Rubric Chico State Rubr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Learner Support &amp;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Online Organization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nstructional Design/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Evaluation of Student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nnovative Teaching w/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Use of Student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so an Instructional Design Tips for Online Learning developed by Joan Van Duzer, Humboldt State University) in conjunction with the Chico State 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what point will this no longer just be an alterna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429F-BB23-4AB4-93FE-BF6A953E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1DE9-2382-49A6-B8A5-8B89C2D6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F66-800D-499A-A197-4D59FEF3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9A32-0462-4639-B7D6-B5CBB732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1248-F2D8-405C-B298-7C18C08C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1435-6B71-40D0-8430-47C2019B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BA7D-8089-4129-A1F5-2F1C54A6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513E-CCEC-44C6-B02B-00CD10A4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7EC3-A754-43C9-A051-DA3F8841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AF86-A0E0-4863-9A37-16012C46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8722-C89F-4FED-B45D-C7122C10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0461-487B-458D-B60B-C5DA4176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6D79-E09F-4933-BA78-FDE380ED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A696-8F3F-4BE5-8CBD-CDFD0B4D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0111-FD87-462F-8C2A-728AF7F5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E8C3-5E93-4E43-9F81-2211CBCD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BE6A-43EE-4AC3-853A-4F8E8BC5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0F113-22B7-49D3-8D01-208B157E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90C00-3370-4D5C-BE2C-7350FC2B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BE24F-E084-42C5-8C81-CF67F4BE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F8247-6D76-4A3C-8A93-B6B069CA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117E2-61C2-4A17-8CC9-6695A724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870F-D7AD-427E-9103-21510ECD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D87E7-6BF9-4ADD-BC44-5A52B38F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29121-6AED-45E1-8AD4-B849F7F0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3BE7F-526F-4B6A-BE04-EF00A85E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539D8-0D61-4431-8363-83CDD0D4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59753-4EE0-4A43-87D5-2332D166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45DBE-2BED-4473-8B9D-87D29C9E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3FCAB-E8E6-4C9B-8551-A1F3A14F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E91EC-B2CC-4AF2-A768-1C1AAC62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06A9B-B6D2-4CD5-8B20-9189EAD0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6A07B-FFA2-472A-B894-D6D8BF59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E8CC-A72B-4513-978F-2CE99AD2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FC495-FA7F-417F-9549-7919DBBB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7B186-1AAE-4BA0-9C25-F5C904B2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23606-546D-49FC-9A3A-C52EF04E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3D08A-1C9C-422F-8218-3FD7849A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92827-AFF8-4FEF-815E-9BB72A8D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B7405-0082-40EC-A282-E640FE62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F18F1-1813-404A-B5A6-E5EDD1CC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6C0E5-0F6C-42D1-982B-88D4BB38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EC1C4-A365-455F-B9CB-47EF1589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51853-F5A3-46C6-90BB-859BEB7A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E209-2B81-4629-A0AF-F4CB1AAC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0437B-5EEE-47A7-BEAE-097D7402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28AAA-9E09-42A3-AD48-50BB08A6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A5793-C984-4DCA-A90B-E4A9A42C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3A172-72EC-4EC5-8D10-5EF31BF5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1A13E-E0EB-4986-942A-7A40A535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06FFF-5DBB-4ADA-B4ED-3E970373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FDBD9-042A-4B41-A086-EFB8D47B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23BEB-C88F-4C26-8B59-EE5D8E06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78DF3-0F6F-4299-A08D-BC2E5598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8FE27-1142-4CE7-93CB-24F428B4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470-750C-449F-B87A-316A5037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BECAE-966C-4F0F-B6BF-2FFC2BF9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432F4-4BF7-4417-B327-78259991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06D17-C031-4FEF-9081-CF1183E8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2A33F-DAD5-43EE-BEF9-6E41EAF6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84055-0345-4A0D-BDEF-4102FC79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18B34-A564-404E-96B2-50D4E3E8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DC35E-CE23-4A6D-92A7-C68FED5D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34609-2E5B-4187-8B8D-656A7940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C0FAB-3C39-457C-9EBB-F169142A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9260C-B26A-42B8-BF94-61467C9D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5C53-61CA-45E1-ABFB-DD3CBC30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186BC-BDA6-43EC-9777-4D6741CC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C27A0-9DC4-45E7-A7AE-CF9371C4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9D6C6-320C-4524-90F0-4C688E19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204D-CAA8-4E94-9FFE-536158BE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280-A9C6-4384-8E35-A6B440B4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5A7F-5DE5-4E1B-8E62-BAA5AC3971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224C-2A9F-4CFE-8A20-3708D3B623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B25C-E03F-4312-9630-B3ACCF6A8E4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5623-58E8-464E-B85C-80A163B2F71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5970-32D0-4559-8D66-676CB3EF649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1B47-CF16-4550-8C03-7025D24FFC5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utlertech.org/btol/" TargetMode="External"/><Relationship Id="rId2" Type="http://schemas.openxmlformats.org/officeDocument/2006/relationships/hyperlink" Target="http://www.butlertech.org/btol/" TargetMode="External"/><Relationship Id="rId3" Type="http://schemas.openxmlformats.org/officeDocument/2006/relationships/hyperlink" Target="http://www.butlertech.org/bto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3.xml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slide" Target="slide36.xml"/><Relationship Id="rId6" Type="http://schemas.openxmlformats.org/officeDocument/2006/relationships/image" Target="../media/image19.wmf"/><Relationship Id="rId7" Type="http://schemas.openxmlformats.org/officeDocument/2006/relationships/slide" Target="slide35.xml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distancelearn.about.com/od/virtualhighschools/a/OnlneHighQ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ureau of Labor Statistics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66"/>
                </a:solidFill>
                <a:latin typeface="Verdana"/>
              </a:rPr>
              <a:t>Note: Data are 2007 annual averages for persons age 25 and over. Earnings are for full-time wage and salary workers. UPDATED APRIL 2008</a:t>
            </a:r>
            <a:br>
              <a:rPr sz="1300"/>
            </a:br>
            <a:br>
              <a:rPr sz="1300"/>
            </a:b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bls.gov/emp/emptab7.ht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 of University Affiliated Online H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anford’s gifted-student program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$13,000 per year.  Courses range from $495 to $740 each w/additional $50 for materials &amp; shipping per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schls that charge &lt; $150 per cre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University of Oklahoma High School costs $1,725 per year ($180 per course) in addition to several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 Program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ch Program will pay for part tim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spend ½ day in tech cent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&amp; tech center pays for supplemental academic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Eric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tional Tr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klahomans’ Opin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National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lorid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Most wide-ranging virtual mandate in the 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tate law requires districts to create full-time virtual schools K-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chigan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Recent requirement that ALL graduates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ave an online learning experience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(Other state-wide = Illinois &amp; Ida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nnesot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ull-time virtual K-12, launched 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lementary = 20% online + plastic tubs of materials @ home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Washington State &amp; Massachusetts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xploring idea of increas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-led initiatives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to state-wid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palmbeachpost.com/search/content/local_news/epaper/2008/09/28/a1a_virtual_school_0929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http://www.sbe.wa.gov/documents/OnlineLearningMemo051408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Oklahoma Public Opinion P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 Vision Phone Survey: April 25-27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200 Oklahoma Registered Vo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lection using All Active Area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% Female, 49% Male, 78% with K-12 child/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7% Democrats, 40% Republicans, 13%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7% White &amp; 75% w/Family Income +$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in of Error: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 percentag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ll Sponsors:  Friedman Foundation &amp;  Oklahoma Council of Public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ther Sponsors include:  The Department of Catholic Education-Archdiocese of Oklahoma City, Americans for Prosperity-Oklahoma, American Legislative Exchange Council, Black Alliance for Educational Options, Center for Education Reform, Connections Academy, Hispanic Council for Reform &amp; Educational Options, &amp; the National Catholic Educational Assoc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ssed on October 10, 2008:  http://www.hcreo.org/files/1097_files_Friedman_OK_Survey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7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7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7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7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7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7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7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7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700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7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ns Resp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2209680" y="-685800"/>
          <a:ext cx="609624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-685800"/>
                    <a:ext cx="609624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0" y="2590920"/>
          <a:ext cx="7010280" cy="21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90920"/>
                    <a:ext cx="701028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85880" cy="2362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graphicFrame>
        <p:nvGraphicFramePr>
          <p:cNvPr id="286" name=""/>
          <p:cNvGraphicFramePr/>
          <p:nvPr/>
        </p:nvGraphicFramePr>
        <p:xfrm>
          <a:off x="3505320" y="4451400"/>
          <a:ext cx="5638680" cy="2406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5320" y="4451400"/>
                    <a:ext cx="563868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676520" y="3048120"/>
          <a:ext cx="7467480" cy="27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7467480" cy="27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152280" y="-533520"/>
          <a:ext cx="7720200" cy="329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-533520"/>
                    <a:ext cx="772020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-13680" y="6143760"/>
            <a:ext cx="59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*Published in April 2007 by the National Center for Educational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533520" y="4114800"/>
          <a:ext cx="8229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114800"/>
                    <a:ext cx="8229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014480" y="-142920"/>
          <a:ext cx="7151760" cy="34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-142920"/>
                    <a:ext cx="715176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04920" y="0"/>
          <a:ext cx="861840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6184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6724800" y="3200400"/>
            <a:ext cx="2419200" cy="36576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s &amp; the Future of High School Diplo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6840" y="35812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arrie Allda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rica Burns, Betsy Kisling, Stacy Meldrum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dr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457200" y="-609480"/>
          <a:ext cx="838188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609480"/>
                    <a:ext cx="838188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3333960" cy="4343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321600" y="2590920"/>
            <a:ext cx="2822400" cy="42670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 of respondents are open to Virtual Schools even though 59% stated they had “not that familiar with” or had “never heard of” virtual, cyber, or online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1% are not satisfied with the current public school system.  The figure raises to 51% when excluding the “undecided” respo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 is lagging in online education possib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900 OK Students </a:t>
            </a:r>
            <a:r>
              <a:rPr b="0" i="1" lang="en-US" sz="2800" spc="-1" strike="noStrike">
                <a:solidFill>
                  <a:srgbClr val="ffff66"/>
                </a:solidFill>
                <a:latin typeface="Baskerville Old Face"/>
              </a:rPr>
              <a:t>VS.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50,000 Florida Virtual Academy Students completing 90,000 courses in 2007/8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a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rcRect l="0" t="22642" r="6249" b="5119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utler Tech Online - Hamilton,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a variety of options 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ull-time, part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ffers in conjunction with Academie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utlertech.org/bto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4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 Virtual High Schools – Oklahom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wned by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urriculum delivered in a variety of ways online (lecture, videos, Power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have a quick feeling of “success” because of frequen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ri-County Tech Center – Bartlesville,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online learning through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tilized when students can’t fit an academic course in their schedule when enrolled at Tri-Cou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lab available to suppor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ree to student if they complete the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And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ccess Rat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 Quality &amp; 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ate of Oklahoma Virtual High School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1981080" y="91440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dvanced Academic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rId2" action="ppaction://hlinksldjump"/>
          </p:cNvPr>
          <p:cNvSpPr/>
          <p:nvPr/>
        </p:nvSpPr>
        <p:spPr>
          <a:xfrm>
            <a:off x="2514600" y="205740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320040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lahoma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38098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m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44956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1814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58672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h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2209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School Distric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04560" y="25909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2590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274320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5486400" y="2133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334120" y="2895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562720" y="28191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800600" y="3962520"/>
            <a:ext cx="1447920" cy="1328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705720" y="43434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-12 gr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248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276720" y="3505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3505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733560" y="4648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388620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Instruction 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27672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276720" y="4724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276720" y="54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114800"/>
            <a:ext cx="874440" cy="8478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523880" y="32767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2949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1240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chool Dipl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523880" y="60199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523880" y="40384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523880" y="4724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523880" y="5410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523880" y="3429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3124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peed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79132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, Inc., a subsidiary of DeVry Inc. (NYSE:D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porate office in OKC (Bricktow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any was founded by educators who have a passion for student success. Since its inception in 200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 has implemented online learning programs in schools and districts across 30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02, the company received regional accreditation as a diploma-granting institution from the North Central Association Commission on Accreditation (N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national accreditation from the Commission on International and Trans-Regional Accreditation (CITA). We gained these accreditations in order to validate our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rId1" action="ppaction://hlinksldjump"/>
          </p:cNvPr>
          <p:cNvSpPr/>
          <p:nvPr/>
        </p:nvSpPr>
        <p:spPr>
          <a:xfrm>
            <a:off x="777240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nfrastructure 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,000,000 (Initial start u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500,000 (Annual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3352680"/>
            <a:ext cx="8229600" cy="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35053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  <a:ea typeface="Osaka"/>
              </a:rPr>
              <a:t>(Revenue) </a:t>
            </a:r>
            <a:r>
              <a:rPr b="0" i="1" lang="en-US" sz="1600" spc="-1" strike="noStrike">
                <a:solidFill>
                  <a:srgbClr val="ffff66"/>
                </a:solidFill>
                <a:latin typeface="Arial"/>
                <a:ea typeface="Osaka"/>
              </a:rPr>
              <a:t>Oklahom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4,500 per-stud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Osaka"/>
              </a:rPr>
              <a:t>(average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@ 945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= 4,252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769608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of Oklahoma Dept. of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d Acade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f full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75248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39152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1" action="ppaction://hlinksldjump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tention Rates / Success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ationally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courses 88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in courses 74% (6,5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active 62% (5,5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lahoma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Students 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courses 29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that are active 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active courses on track 5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completed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1" action="ppaction://hlinksldjump"/>
          </p:cNvPr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PA 2.00 (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IEP'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EOI (End of Instruction) s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in OKC public schools (must be a OKC high school drop out or ask for an open 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ine high school diploma will be the same as traditiona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take year book picture, attend prom, walk at graduation etc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62120" y="3886200"/>
            <a:ext cx="7772400" cy="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" action="ppaction://hlinksldjump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ets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aculty Development Qual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ult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nline instructor’s role requires a paradigm shift in perception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instructional time &amp; space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,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Baskerville Old Face"/>
              </a:rPr>
              <a:t>virtual management technique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, &amp;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ways of engaging students through virtual communication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.”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(Easton, 200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ystem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ust-in-Ti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ance Edu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Based on results of a systematic literature review of 160 articles and twelve 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839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udent-teache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mpt feedback from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gram evaluation &amp;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ear analysis of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ocumented technology plan to ensur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nstitutional support &amp; institu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urse structur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1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3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4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505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6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rri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Education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learn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spect diverse way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aculty suppor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rong rationale for distance education that correlates to the mission of the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tools an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liabili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lementation of guidelines for course development and review of instructional material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21(3), p. 145-1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2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3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4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1505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506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7507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ing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ssess with a 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lifornia State University, Chic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 User’s Guide to Online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ww.nea.org/technology/distanced/high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ow to Choose an Online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andout retrie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stancelearn.about.com/od/virtualhighschools/a/OnlneHighQ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the bottom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t has more to do with whether this is a good way for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) student to learn. To me, I look at online learning not as something that’s going to be the savior of education,” she said. “This is one alternative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ngela Specketer, Principal of Minnesota Virtual Acad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full-time virtual started in 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ture Forec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you see as the challe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1698480"/>
            <a:ext cx="899172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Meeting individual learner’s needs &amp;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iverse learning styles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EPs – truly customer 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participation, engagement,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use of tools, technologies, method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klahoma education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 Quality &amp; 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28800" y="5562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Conclus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line Learning i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It is Here to St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"/>
          <p:cNvSpPr/>
          <p:nvPr/>
        </p:nvSpPr>
        <p:spPr>
          <a:xfrm>
            <a:off x="4952880" y="42670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et Over Yourself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rcRect l="15835" t="0" r="8163" b="14006"/>
          <a:stretch/>
        </p:blipFill>
        <p:spPr>
          <a:xfrm>
            <a:off x="1600200" y="3200400"/>
            <a:ext cx="2347920" cy="3276720"/>
          </a:xfrm>
          <a:prstGeom prst="rect">
            <a:avLst/>
          </a:prstGeom>
          <a:ln w="1908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407" name=""/>
          <p:cNvSpPr/>
          <p:nvPr/>
        </p:nvSpPr>
        <p:spPr>
          <a:xfrm>
            <a:off x="304920" y="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100"/>
                            </p:stCondLst>
                            <p:childTnLst>
                              <p:par>
                                <p:cTn id="2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100"/>
                            </p:stCondLst>
                            <p:childTnLst>
                              <p:par>
                                <p:cTn id="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100"/>
                            </p:stCondLst>
                            <p:childTnLst>
                              <p:par>
                                <p:cTn id="2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4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udience Respon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438280" y="3044520"/>
            <a:ext cx="4572000" cy="20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ments 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ncerns #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25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25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25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625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25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25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25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125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25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25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25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Online High Schoo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ublic or private schools that allow students to work with their curriculum &amp; teachers using the Internet, rather than in a traditional classroom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ption for students wh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tay home for health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sire to work at their own 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nd themselves unable to concentrate on their work in the traditio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chedule their learning around a car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ypes of Online High Sch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- Public/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-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- University Affili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ublic Online HS in 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228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urrently OK has 900 students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#s continue to increase based on how many students the 6 partnering schls will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ree for full time students (6 courses/seme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art Time Students pay $400 per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nerally provide curriculum &amp; other materials at no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me offer computer leases &amp; pay for student internet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rivate Online H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o Private online in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(possible to find non-profit progr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ome are as much as $16,000 for a 4-year diploma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low-cost alterna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like Penn Foster complete diplo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pprox. $1,2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4:35:21Z</dcterms:created>
  <dc:creator>Erica Burns</dc:creator>
  <dc:description/>
  <dc:language>en-US</dc:language>
  <cp:lastModifiedBy>Andre Washington</cp:lastModifiedBy>
  <dcterms:modified xsi:type="dcterms:W3CDTF">2008-10-20T23:41:06Z</dcterms:modified>
  <cp:revision>111</cp:revision>
  <dc:subject/>
  <dc:title>Online High Schools &amp; the Future of High School Diplomas</dc:title>
</cp:coreProperties>
</file>