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1.jpeg" ContentType="image/jpeg"/>
  <Override PartName="/ppt/media/image16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9EF7-8907-4621-8C52-178E66026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6343-7EDA-45BA-A9F3-C296C393D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E219-EA6C-440D-9BBF-685B95CFA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D4AF-A097-41B2-B2DF-DE09A20C7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CEA1-F8B9-4C2C-8230-EEE5C4CE7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31E1-1D45-44B3-91F1-3B02C587C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C4FC-73B2-4020-B602-E7AAAB6D6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762120" y="6094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odyear in 2001 identified 9 instructor roles!  Content facilitator, technologist, designer, manager/administrator, process facilitator, advisor/counselor, assessor, resear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s approach to onlin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selors, enrollment process, ori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al desig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ject matter exp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assistants (assistance), tech, bookstore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us Technology, October 2008 “Just-in-Time Support identifies 8 best practices for providing support to online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itutionalize the basics – provide orientation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loaded Course Templ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sure faculty aren’t first responders for non-content related ques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st-in-Time Support  in development st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ntoring from experienced online instr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nk through pedagogy behind the technology tools-wikis, blogs, (why, how, wh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elop the above systems support (instructional tea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gin a COP for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INT OUT CHALLENGE AREAS – discussion point – what do you see as challenge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Quality Indicators of Distance Education Identified in the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sults of a systematic literature review of 160 articles and twelve boo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1(3), p. 145-16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dition, a study completed by the NEA and Blackboard Inc., (Institute for Higher Education Policy study commissioned by NEA and Blackboard) released in 2000, found 24 quality benchmarks for success in internet-based distance education.  Shimp, in an unpublished dissertation completed in December 2007, reviewed 278 articles published in 4 journals from 2000-2006 and found the same benchmarks and 2 additional benchmar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orientation to distance education courses or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 interaction with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s of Rubric Chico State Rubr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Learner Support &amp;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Online Organization and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Instructional Design/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Evaluation of Student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Innovative Teaching w/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Use of Student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so an Instructional Design Tips for Online Learning developed by Joan Van Duzer, Humboldt State University) in conjunction with the Chico State 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what point will this no longer just be an alterna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986A-C245-469F-A868-2126AF18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18DF-FD8E-4D90-8EE6-A81CEBFF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D61F-935C-4735-A65D-47AED95B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51D8-529B-4F68-939A-FB0E38B4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B697-9C14-4162-8C76-DA71D643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AF65-18C5-4ADF-A39C-920DE500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F141-6DD2-4E61-9FDA-C9DD975D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515B-3121-4332-821F-E0CD3E95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4A15-EEC0-4CC4-A5BB-5ED706E7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8F37-3FA8-4E4D-B58E-C53F47CD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B453-D750-400B-BD4A-2653FDE6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3DBE-4AF9-4513-9AFC-CFC7127B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BCC9-B80D-4D1F-BEEE-73818519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653F-E046-4EA7-99F8-CECAEB76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D1D3-C8CA-4F66-934D-36D04300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5844-AF4E-438E-90DE-A1EDFB9B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1949-481C-4B6F-8128-C3504F06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23862-8B60-49C1-84A0-FC726FA5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47637-359E-4743-B896-B382F2C9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3EBC2-AA17-4C65-A531-234E07EE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4C9FF-8420-47CD-ABF1-63F336A6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3403D-6054-4B65-A42C-B6B5724A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977C-76AC-4BB8-923D-A875C389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EA496-12FA-48BF-999B-46D04158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C4721-7654-4E01-A007-4191B5F9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6B0D7-91B9-4012-A95E-DD44126C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1DE1A-E461-46D9-A37E-D05078B8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AAF13-22AF-472F-8297-49DA1B4E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1120B-D7CA-4708-A3CE-CA420FBE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24861-6F17-4BD3-973C-F00D615E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D8910-A9AA-4E39-A8F6-4AA2F958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CBB6B-DFD7-4A74-AC1A-570EBC6B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1F566-8A75-43F0-852B-2C49F767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A332-D8AA-4A46-B849-5077E199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3C43A-BA1A-49E2-8B7F-46E3CA6B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C480F-4423-4573-A728-2F27162E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65382-9732-49B9-A34C-2767961C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A6006-7EE5-409E-9779-E912100D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B64F6-85AC-4762-9978-CA3D3FBC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F7563-3614-4AB0-A6E1-4A640CDA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87C0F-3FBE-4576-BF80-3164B12F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48F13-3C1E-4AFB-B763-E7A4C575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16900-C602-422B-B518-C1C628034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35A31-E67E-4CF1-A741-0DC493E7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B8D5-47BD-4A25-93BE-95FEF34B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E86AB-30E0-4137-8C4F-36CB53CF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ADF85-5A22-4C69-A5AF-00660804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99F53-909A-455A-94C5-A5291891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1CB3F-3185-46B6-B73F-143DF38E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A4AD7-E13A-4843-A6D6-81F051B0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64FC7-F8B0-4070-BDB4-03304B16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E147E-894B-43FB-8B1C-70F767F6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B4344-B401-4F74-B7D7-C78704B5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25E78-0F71-4A52-A037-6C87D1C5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6255C-AB13-43AA-ADD3-0A88C6B0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0B4-97CD-4295-8F54-9E6112A6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E525F-BF01-4CF4-BC33-593457BE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6865C-B924-423E-B7EE-A5390D72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CA194-6CDD-4A9C-A1CD-2AEABBC1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2A55A-A7EE-4E6A-849C-A8061A17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5F5A1-65E2-40AE-9D69-4A5842CA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5CE66-0F05-46C5-9B12-F68DEE47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C89F4-E866-4FF8-9F5E-2C3F0516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FE401-E444-4E45-9C71-DD7713AF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A554E-0D09-4DD5-99FA-E83A817A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3A7FA-53D7-4DAA-9B51-DE4A9EFC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71B7-67C2-4618-AECE-9936B8CD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148E7-07FC-4CD0-8671-8AAD386F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034E3-898B-4489-9FC0-2C763A65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8C005-5416-4AAE-8172-D4ECB817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C71F-8EFB-4E35-B57B-3B1ECF91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9195-A00E-48F0-90C4-6FDE899C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472D-0D02-4DEC-B840-34524AFE20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96C0-8729-43EE-912F-D852625ED7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7CAF-C3E1-4307-930A-38EAB635FD7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6762-51FD-4825-A12A-B8ED1BD17FF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81FD-7441-4B45-AEFB-DC0944ED59B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D301-3280-4262-989F-C32C276CE0B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utlertech.org/btol/" TargetMode="External"/><Relationship Id="rId2" Type="http://schemas.openxmlformats.org/officeDocument/2006/relationships/hyperlink" Target="http://www.butlertech.org/btol/" TargetMode="External"/><Relationship Id="rId3" Type="http://schemas.openxmlformats.org/officeDocument/2006/relationships/hyperlink" Target="http://www.butlertech.org/bto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slide" Target=""/><Relationship Id="rId5" Type="http://schemas.openxmlformats.org/officeDocument/2006/relationships/image" Target="../media/image19.wmf"/><Relationship Id="rId6" Type="http://schemas.openxmlformats.org/officeDocument/2006/relationships/slide" Target="slide1.xml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distancelearn.about.com/od/virtualhighschools/a/OnlneHighQ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ureau of Labor Statistics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66"/>
                </a:solidFill>
                <a:latin typeface="Verdana"/>
              </a:rPr>
              <a:t>Note: Data are 2007 annual averages for persons age 25 and over. Earnings are for full-time wage and salary workers. UPDATED APRIL 2008</a:t>
            </a:r>
            <a:br>
              <a:rPr sz="1300"/>
            </a:br>
            <a:br>
              <a:rPr sz="1300"/>
            </a:b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bls.gov/emp/emptab7.ht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 of University Affiliated Online H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anford’s gifted-student program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$13,000 per year.  Courses range from $495 to $740 each w/additional $50 for materials &amp; shipping per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schls that charge &lt; $150 per cre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University of Oklahoma High School costs $1,725 per year ($180 per course) in addition to several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 Program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ch Program will pay for part tim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spend ½ day in tech cent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&amp; tech center pays for supplemental academic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Eric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tional Tre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klahomans’ Opin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National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lorid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Most wide-ranging virtual mandate in the 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tate law requires districts to create full-time virtual schools K-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chigan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Recent requirement that ALL graduates m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ave an online learning experience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(Other state-wide = Illinois &amp; Ida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nnesot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Full-time virtual K-12, launched i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lementary = 20% online + plastic tubs of materials @ home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Washington State &amp; Massachusetts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xploring idea of increas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-led initiatives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to state-wid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palmbeachpost.com/search/content/local_news/epaper/2008/09/28/a1a_virtual_school_0929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http://www.sbe.wa.gov/documents/OnlineLearningMemo051408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Oklahoma Public Opinion P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ic Vision Phone Survey: April 25-27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200 Oklahoma Registered Vo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Selection using All Active Area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1% Female, 49% Male, 78% with K-12 child/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7% Democrats, 40% Republicans, 13%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7% White &amp; 75% w/Family Income +$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in of Error: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 percentag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ll Sponsors:  Friedman Foundation &amp;  Oklahoma Council of Public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Other Sponsors include:  The Department of Catholic Education-Archdiocese of Oklahoma City, Americans for Prosperity-Oklahoma, American Legislative Exchange Council, Black Alliance for Educational Options, Center for Education Reform, Connections Academy, Hispanic Council for Reform &amp; Educational Options, &amp; the National Catholic Educational Associ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ssed on October 10, 2008:  http://www.hcreo.org/files/1097_files_Friedman_OK_Survey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7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7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7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7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7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7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7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10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7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400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7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7000"/>
                            </p:stCondLst>
                            <p:childTnLst>
                              <p:par>
                                <p:cTn id="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7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ns Resp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2209680" y="-685800"/>
          <a:ext cx="609624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-685800"/>
                    <a:ext cx="609624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0" y="2590920"/>
          <a:ext cx="7010280" cy="21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90920"/>
                    <a:ext cx="701028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685880" cy="236232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graphicFrame>
        <p:nvGraphicFramePr>
          <p:cNvPr id="286" name=""/>
          <p:cNvGraphicFramePr/>
          <p:nvPr/>
        </p:nvGraphicFramePr>
        <p:xfrm>
          <a:off x="3505320" y="4451400"/>
          <a:ext cx="5638680" cy="2406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5320" y="4451400"/>
                    <a:ext cx="563868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676520" y="3048120"/>
          <a:ext cx="7467480" cy="27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7467480" cy="27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152280" y="-533520"/>
          <a:ext cx="7720200" cy="329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-533520"/>
                    <a:ext cx="7720200" cy="32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-13680" y="6143760"/>
            <a:ext cx="59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*Published in April 2007 by the National Center for Educational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533520" y="4114800"/>
          <a:ext cx="8229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114800"/>
                    <a:ext cx="8229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014480" y="-142920"/>
          <a:ext cx="7151760" cy="34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-142920"/>
                    <a:ext cx="715176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304920" y="0"/>
          <a:ext cx="8618400" cy="32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6184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6724800" y="3200400"/>
            <a:ext cx="2419200" cy="365760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153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s &amp; the Future of High School Diplo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6840" y="35812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arrie Allday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rica Burns, Betsy Kisling, Stacy Meldrum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ndr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457200" y="-609480"/>
          <a:ext cx="8381880" cy="31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609480"/>
                    <a:ext cx="838188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152280" y="2514600"/>
            <a:ext cx="3333960" cy="4343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321600" y="2590920"/>
            <a:ext cx="2822400" cy="426708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% of respondents are open to Virtual Schools even though 59% stated they had “not that familiar with” or had “never heard of” virtual, cyber, or online sch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1% are not satisfied with the current public school system.  The figure raises to 51% when excluding the “undecided” respo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 is lagging in online education possibil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900 OK Students </a:t>
            </a:r>
            <a:r>
              <a:rPr b="0" i="1" lang="en-US" sz="2800" spc="-1" strike="noStrike">
                <a:solidFill>
                  <a:srgbClr val="ffff66"/>
                </a:solidFill>
                <a:latin typeface="Baskerville Old Face"/>
              </a:rPr>
              <a:t>VS.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50,000 Florida Virtual Academy Students completing 90,000 courses in 2007/8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ac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rcRect l="0" t="22642" r="6249" b="5119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utler Tech Online - Hamilton,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a variety of options fo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ull-time, part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ffers in conjunction with Academie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utlertech.org/bto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4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 Virtual High Schools – Oklahom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wned by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urriculum delivered in a variety of ways online (lecture, videos, Power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have a quick feeling of “success” because of frequent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ri-County Tech Center – Bartlesville,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online learning through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tilized when students can’t fit an academic course in their schedule when enrolled at Tri-Cou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lab available to suppor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ree to student if they complete the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And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ccess Rat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tate of Oklahoma Virtual High School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1981080" y="914400"/>
            <a:ext cx="4648320" cy="838080"/>
          </a:xfrm>
          <a:custGeom>
            <a:avLst/>
            <a:gdLst>
              <a:gd name="textAreaLeft" fmla="*/ 54000 w 4648320"/>
              <a:gd name="textAreaRight" fmla="*/ 4594320 w 4648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19760" h="21600">
                <a:moveTo>
                  <a:pt x="0" y="0"/>
                </a:moveTo>
                <a:lnTo>
                  <a:pt x="119760" y="0"/>
                </a:lnTo>
                <a:lnTo>
                  <a:pt x="119760" y="21600"/>
                </a:lnTo>
                <a:lnTo>
                  <a:pt x="0" y="21600"/>
                </a:lnTo>
                <a:close/>
              </a:path>
              <a:path fill="lightenLess" w="119760" h="21600">
                <a:moveTo>
                  <a:pt x="0" y="0"/>
                </a:moveTo>
                <a:lnTo>
                  <a:pt x="119760" y="0"/>
                </a:lnTo>
                <a:lnTo>
                  <a:pt x="118360" y="1400"/>
                </a:lnTo>
                <a:lnTo>
                  <a:pt x="1400" y="1400"/>
                </a:lnTo>
                <a:close/>
              </a:path>
              <a:path fill="darken" w="119760" h="21600">
                <a:moveTo>
                  <a:pt x="119760" y="0"/>
                </a:moveTo>
                <a:lnTo>
                  <a:pt x="119760" y="21600"/>
                </a:lnTo>
                <a:lnTo>
                  <a:pt x="118360" y="20200"/>
                </a:lnTo>
                <a:lnTo>
                  <a:pt x="118360" y="1400"/>
                </a:lnTo>
                <a:close/>
              </a:path>
              <a:path fill="darkenLess" w="119760" h="21600">
                <a:moveTo>
                  <a:pt x="119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360" y="20200"/>
                </a:lnTo>
                <a:close/>
              </a:path>
              <a:path fill="lighten" w="119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Academics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14600" y="2057400"/>
            <a:ext cx="3657600" cy="685800"/>
          </a:xfrm>
          <a:custGeom>
            <a:avLst/>
            <a:gdLst>
              <a:gd name="textAreaLeft" fmla="*/ 44280 w 3657600"/>
              <a:gd name="textAreaRight" fmla="*/ 3613320 w 3657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5151" h="21600">
                <a:moveTo>
                  <a:pt x="0" y="0"/>
                </a:moveTo>
                <a:lnTo>
                  <a:pt x="115151" y="0"/>
                </a:lnTo>
                <a:lnTo>
                  <a:pt x="115151" y="21600"/>
                </a:lnTo>
                <a:lnTo>
                  <a:pt x="0" y="21600"/>
                </a:lnTo>
                <a:close/>
              </a:path>
              <a:path fill="lightenLess" w="115151" h="21600">
                <a:moveTo>
                  <a:pt x="0" y="0"/>
                </a:moveTo>
                <a:lnTo>
                  <a:pt x="115151" y="0"/>
                </a:lnTo>
                <a:lnTo>
                  <a:pt x="113751" y="1400"/>
                </a:lnTo>
                <a:lnTo>
                  <a:pt x="1400" y="1400"/>
                </a:lnTo>
                <a:close/>
              </a:path>
              <a:path fill="darken" w="115151" h="21600">
                <a:moveTo>
                  <a:pt x="115151" y="0"/>
                </a:moveTo>
                <a:lnTo>
                  <a:pt x="115151" y="21600"/>
                </a:lnTo>
                <a:lnTo>
                  <a:pt x="113751" y="20200"/>
                </a:lnTo>
                <a:lnTo>
                  <a:pt x="113751" y="1400"/>
                </a:lnTo>
                <a:close/>
              </a:path>
              <a:path fill="darkenLess" w="115151" h="21600">
                <a:moveTo>
                  <a:pt x="115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1" y="20200"/>
                </a:lnTo>
                <a:close/>
              </a:path>
              <a:path fill="lighten" w="115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High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320040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klahoma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38098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m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44956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1814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58672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h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22096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School Distric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04560" y="25909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2590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1752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5486400" y="2133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5334120" y="28954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562720" y="28191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3962520"/>
            <a:ext cx="1447920" cy="13287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705720" y="434340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High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-12 gra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248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276720" y="3505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72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33920" y="3505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733560" y="46483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9880" y="388620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of Instruction Ex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27672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276720" y="4724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276720" y="5410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04920" y="4114800"/>
            <a:ext cx="874440" cy="8478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523880" y="32767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29492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12408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chool Dipl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523880" y="60199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523880" y="40384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523880" y="4724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523880" y="54100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523880" y="34290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3124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peed Int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791320" y="3352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, Inc., a subsidiary of DeVry Inc. (NYSE:D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porate office in OKC (Bricktow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any was founded by educators who have a passion for student success. Since its inception in 200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 has implemented online learning programs in schools and districts across 30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2002, the company received regional accreditation as a diploma-granting institution from the North Central Association Commission on Accreditation (N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national accreditation from the Commission on International and Trans-Regional Accreditation (CITA). We gained these accreditations in order to validate our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firstslide"/>
          </p:cNvPr>
          <p:cNvSpPr/>
          <p:nvPr/>
        </p:nvSpPr>
        <p:spPr>
          <a:xfrm>
            <a:off x="777240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is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of Oklahoma Dept. of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ced Academ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f full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5248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9152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nfrastructure 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(c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,000,000 (Initial start u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 500,000 (Annuall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3352680"/>
            <a:ext cx="8229600" cy="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35053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Arial"/>
                <a:ea typeface="Osaka"/>
              </a:rPr>
              <a:t>(Revenue) </a:t>
            </a:r>
            <a:r>
              <a:rPr b="0" i="1" lang="en-US" sz="1600" spc="-1" strike="noStrike">
                <a:solidFill>
                  <a:srgbClr val="ffff66"/>
                </a:solidFill>
                <a:latin typeface="Arial"/>
                <a:ea typeface="Osaka"/>
              </a:rPr>
              <a:t>Oklahom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4,500 per-stud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Osaka"/>
              </a:rPr>
              <a:t>(average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@ 945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= 4,252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etention Rates / Success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ationally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courses 88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in courses 74% (6,5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active 62% (5,5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lahoma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Students 9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courses 29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that are active 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active courses on track 5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completed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" action="ppaction://hlinkshowjump?jump=firstslide"/>
          </p:cNvPr>
          <p:cNvSpPr/>
          <p:nvPr/>
        </p:nvSpPr>
        <p:spPr>
          <a:xfrm>
            <a:off x="8077320" y="5943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Elig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PA 2.00 (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IEP'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EOI (End of Instruction) s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in OKC public schools (must be a OKC high school drop out or ask for an open trans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ine high school diploma will be the same as traditiona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take year book picture, attend prom, walk at graduation etc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62120" y="3886200"/>
            <a:ext cx="7772400" cy="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" action="ppaction://hlinkshowjump?jump=firstslide"/>
          </p:cNvPr>
          <p:cNvSpPr/>
          <p:nvPr/>
        </p:nvSpPr>
        <p:spPr>
          <a:xfrm>
            <a:off x="80010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ets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Quali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ulty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nline instructor’s role requires a paradigm shift in perception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instructional time &amp; space</a:t>
            </a:r>
            <a:r>
              <a:rPr b="1" lang="en-US" sz="2800" spc="-1" strike="noStrike">
                <a:solidFill>
                  <a:srgbClr val="ffffff"/>
                </a:solidFill>
                <a:latin typeface="Baskerville Old Face"/>
              </a:rPr>
              <a:t>,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Baskerville Old Face"/>
              </a:rPr>
              <a:t>virtual management technique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, &amp;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ways of engaging students through virtual communication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.”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(Easton, 200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ystem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Just-in-Ti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tance Edu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Based on results of a systematic literature review of 160 articles and twelve boo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839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udent-teache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mpt feedback from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gram evaluation &amp;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lear analysis of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ocumented technology plan to ensur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nstitutional support &amp; institu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urse structur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1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1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3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4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505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506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arri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 Education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learn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spect diverse ways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aculty suppor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rong rationale for distance education that correlates to the mission of the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tools an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liabili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mplementation of guidelines for course development and review of instructional material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21(3), p. 145-1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2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3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4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1505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506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7507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ing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ssess with a 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lifornia State University, Chico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 User’s Guide to Online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ww.nea.org/technology/distanced/high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ow to Choose an Online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andout retrieved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stancelearn.about.com/od/virtualhighschools/a/OnlneHighQ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the bottom 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t has more to do with whether this is a good way for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) student to learn. To me, I look at online learning not as something that’s going to be the savior of education,” she said. “This is one alternative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ngela Specketer, Principal of Minnesota Virtual Acade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full-time virtual started in 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uture Forec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do you see as the challe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52280" y="1698480"/>
            <a:ext cx="899172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Meeting individual learner’s needs &amp;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iverse learning styles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EPs – truly customer 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participation, engagement,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use of tools, technologies, methods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klahoma education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What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5562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Conclus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line Learning i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It is Here to St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"/>
          <p:cNvSpPr/>
          <p:nvPr/>
        </p:nvSpPr>
        <p:spPr>
          <a:xfrm>
            <a:off x="4952880" y="42670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et Over Yourself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rcRect l="15835" t="0" r="8163" b="14006"/>
          <a:stretch/>
        </p:blipFill>
        <p:spPr>
          <a:xfrm>
            <a:off x="1600200" y="3200400"/>
            <a:ext cx="2347920" cy="3276720"/>
          </a:xfrm>
          <a:prstGeom prst="rect">
            <a:avLst/>
          </a:prstGeom>
          <a:ln w="1908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406" name=""/>
          <p:cNvSpPr/>
          <p:nvPr/>
        </p:nvSpPr>
        <p:spPr>
          <a:xfrm>
            <a:off x="304920" y="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100"/>
                            </p:stCondLst>
                            <p:childTnLst>
                              <p:par>
                                <p:cTn id="2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100"/>
                            </p:stCondLst>
                            <p:childTnLst>
                              <p:par>
                                <p:cTn id="2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100"/>
                            </p:stCondLst>
                            <p:childTnLst>
                              <p:par>
                                <p:cTn id="2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4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udience Respon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438280" y="3044520"/>
            <a:ext cx="4572000" cy="20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ments 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ncerns #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625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125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Online High Schoo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19807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ublic or private schools that allow students to work with their curriculum &amp; teachers using the Internet, rather than in a traditional classroom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ption for students wh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tay home for health 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sire to work at their own 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nd themselves unable to concentrate on their work in the traditio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chedule their learning around a car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ypes of Online High Sch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- Public/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- Pr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- University Affili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ublic Online HS in 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2280" y="13712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urrently OK has 900 students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#s continue to increase based on how many students the 6 partnering schls will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ree for full time students (6 courses/seme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art Time Students pay $400 per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enerally provide curriculum &amp; other materials at no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ome offer computer leases &amp; pay for student internet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rivate Online H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o Private online in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(possible to find non-profit progr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ome are as much as $16,000 for a 4-year diploma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low-cost alterna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like Penn Foster complete diplo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pprox. $1,2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4:35:21Z</dcterms:created>
  <dc:creator>Erica Burns</dc:creator>
  <dc:description/>
  <dc:language>en-US</dc:language>
  <cp:lastModifiedBy>Betsy</cp:lastModifiedBy>
  <dcterms:modified xsi:type="dcterms:W3CDTF">2008-10-22T18:05:25Z</dcterms:modified>
  <cp:revision>107</cp:revision>
  <dc:subject/>
  <dc:title>Online High Schools &amp; the Future of High School Diplomas</dc:title>
</cp:coreProperties>
</file>