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757-2E3A-4C2E-BECC-550EF60E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F96-F643-46C2-A6A9-EB5C37DD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013-9FE7-4D24-92C4-F2D36BC7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8BD-6526-45F4-AF23-7A3CB6CC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684-1571-44B0-853D-B0472749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7CF-5B99-433A-B90A-1A8AFFB9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F09-19D3-4EFD-B249-6EE6F0F8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7D4-242A-4EFA-8269-D0E21895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630-E086-4259-AD59-8FF43CE2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7E0-C354-4C6E-90C9-C7E7F044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A90-7D99-4365-87E7-7748CAA7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4A1-ED7A-4BF0-BDCE-BEBB126C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3B66-6E4B-42F6-910A-2CD81B737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, Inc., a subsidiary of DeVry Inc. (NYSE:D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 office in OKC (Bricktow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Revenue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500 per-stud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verag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urses 88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nrolled in courses 74% (6,5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active 62% (5,5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lahom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udents 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nrolled courses 29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enrolled courses that are active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active courses on track 5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enrolled courses completed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A 2.00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E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OI (End of Instruction)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high school diploma will be the same as tradition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take year book picture, attend prom, walk at graduation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6:58:34Z</dcterms:created>
  <dc:creator>Andre Washington</dc:creator>
  <dc:description/>
  <dc:language>en-US</dc:language>
  <cp:lastModifiedBy>Andre Washington</cp:lastModifiedBy>
  <dcterms:modified xsi:type="dcterms:W3CDTF">2008-10-18T07:49:31Z</dcterms:modified>
  <cp:revision>6</cp:revision>
  <dc:subject/>
  <dc:title>Slide 1</dc:title>
</cp:coreProperties>
</file>