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2F1-7DCA-4924-AE6E-4F7EA101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CC8-5D7B-4EEE-AF0B-5B808EEB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91E-C004-4EE5-9D36-CC50B429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ABB-EA81-4B15-AA16-E274A86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CD8-017B-4654-9ADD-382B237E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C4C-6610-4128-AFBD-DEF2505C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610-4004-4C2D-B505-4DF4F47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B94-C8B8-4DC4-9ED9-BFF193A5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588-E959-486D-9418-B1AE7FE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3FC-5A4D-4920-A861-8368E85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06B-E7D0-45C8-AD83-93AFF34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66A-77A2-4943-883D-39EF016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84F-6E7C-4F4C-8142-5365689F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Oklahoma Virtual High School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1981080" y="914400"/>
            <a:ext cx="4648320" cy="838080"/>
          </a:xfrm>
          <a:custGeom>
            <a:avLst/>
            <a:gdLst>
              <a:gd name="textAreaLeft" fmla="*/ 54000 w 4648320"/>
              <a:gd name="textAreaRight" fmla="*/ 4594320 w 4648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19760" h="21600">
                <a:moveTo>
                  <a:pt x="0" y="0"/>
                </a:moveTo>
                <a:lnTo>
                  <a:pt x="119760" y="0"/>
                </a:lnTo>
                <a:lnTo>
                  <a:pt x="119760" y="21600"/>
                </a:lnTo>
                <a:lnTo>
                  <a:pt x="0" y="21600"/>
                </a:lnTo>
                <a:close/>
              </a:path>
              <a:path fill="lightenLess" w="119760" h="21600">
                <a:moveTo>
                  <a:pt x="0" y="0"/>
                </a:moveTo>
                <a:lnTo>
                  <a:pt x="119760" y="0"/>
                </a:lnTo>
                <a:lnTo>
                  <a:pt x="118360" y="1400"/>
                </a:lnTo>
                <a:lnTo>
                  <a:pt x="1400" y="1400"/>
                </a:lnTo>
                <a:close/>
              </a:path>
              <a:path fill="darken" w="119760" h="21600">
                <a:moveTo>
                  <a:pt x="119760" y="0"/>
                </a:moveTo>
                <a:lnTo>
                  <a:pt x="119760" y="21600"/>
                </a:lnTo>
                <a:lnTo>
                  <a:pt x="118360" y="20200"/>
                </a:lnTo>
                <a:lnTo>
                  <a:pt x="118360" y="1400"/>
                </a:lnTo>
                <a:close/>
              </a:path>
              <a:path fill="darkenLess" w="119760" h="21600">
                <a:moveTo>
                  <a:pt x="119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360" y="20200"/>
                </a:lnTo>
                <a:close/>
              </a:path>
              <a:path fill="lighten" w="119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Academic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057400"/>
            <a:ext cx="3657600" cy="685800"/>
          </a:xfrm>
          <a:custGeom>
            <a:avLst/>
            <a:gdLst>
              <a:gd name="textAreaLeft" fmla="*/ 44280 w 3657600"/>
              <a:gd name="textAreaRight" fmla="*/ 3613320 w 3657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5151" h="21600">
                <a:moveTo>
                  <a:pt x="0" y="0"/>
                </a:moveTo>
                <a:lnTo>
                  <a:pt x="115151" y="0"/>
                </a:lnTo>
                <a:lnTo>
                  <a:pt x="115151" y="21600"/>
                </a:lnTo>
                <a:lnTo>
                  <a:pt x="0" y="21600"/>
                </a:lnTo>
                <a:close/>
              </a:path>
              <a:path fill="lightenLess" w="115151" h="21600">
                <a:moveTo>
                  <a:pt x="0" y="0"/>
                </a:moveTo>
                <a:lnTo>
                  <a:pt x="115151" y="0"/>
                </a:lnTo>
                <a:lnTo>
                  <a:pt x="113751" y="1400"/>
                </a:lnTo>
                <a:lnTo>
                  <a:pt x="1400" y="1400"/>
                </a:lnTo>
                <a:close/>
              </a:path>
              <a:path fill="darken" w="115151" h="21600">
                <a:moveTo>
                  <a:pt x="115151" y="0"/>
                </a:moveTo>
                <a:lnTo>
                  <a:pt x="115151" y="21600"/>
                </a:lnTo>
                <a:lnTo>
                  <a:pt x="113751" y="20200"/>
                </a:lnTo>
                <a:lnTo>
                  <a:pt x="113751" y="1400"/>
                </a:lnTo>
                <a:close/>
              </a:path>
              <a:path fill="darkenLess" w="115151" h="21600">
                <a:moveTo>
                  <a:pt x="115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51" y="20200"/>
                </a:lnTo>
                <a:close/>
              </a:path>
              <a:path fill="lighten" w="115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20040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lahoma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8098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4956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1814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867280"/>
            <a:ext cx="1523880" cy="533520"/>
          </a:xfrm>
          <a:custGeom>
            <a:avLst/>
            <a:gdLst>
              <a:gd name="textAreaLeft" fmla="*/ 34560 w 1523880"/>
              <a:gd name="textAreaRight" fmla="*/ 1489320 w 15238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1669" h="21600">
                <a:moveTo>
                  <a:pt x="0" y="0"/>
                </a:moveTo>
                <a:lnTo>
                  <a:pt x="61669" y="0"/>
                </a:lnTo>
                <a:lnTo>
                  <a:pt x="61669" y="21600"/>
                </a:lnTo>
                <a:lnTo>
                  <a:pt x="0" y="21600"/>
                </a:lnTo>
                <a:close/>
              </a:path>
              <a:path fill="lightenLess" w="61669" h="21600">
                <a:moveTo>
                  <a:pt x="0" y="0"/>
                </a:moveTo>
                <a:lnTo>
                  <a:pt x="61669" y="0"/>
                </a:lnTo>
                <a:lnTo>
                  <a:pt x="60269" y="1400"/>
                </a:lnTo>
                <a:lnTo>
                  <a:pt x="1400" y="1400"/>
                </a:lnTo>
                <a:close/>
              </a:path>
              <a:path fill="darken" w="61669" h="21600">
                <a:moveTo>
                  <a:pt x="61669" y="0"/>
                </a:moveTo>
                <a:lnTo>
                  <a:pt x="61669" y="21600"/>
                </a:lnTo>
                <a:lnTo>
                  <a:pt x="60269" y="20200"/>
                </a:lnTo>
                <a:lnTo>
                  <a:pt x="60269" y="1400"/>
                </a:lnTo>
                <a:close/>
              </a:path>
              <a:path fill="darkenLess" w="61669" h="21600">
                <a:moveTo>
                  <a:pt x="61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9" y="20200"/>
                </a:lnTo>
                <a:close/>
              </a:path>
              <a:path fill="lighten" w="61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h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chool Distric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560" y="2590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590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752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28954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8191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3962520"/>
            <a:ext cx="1447920" cy="13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5720" y="43434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-12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27672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505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33560" y="4648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88620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of Instruction Ex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76720" y="4724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720" y="54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74440" cy="847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32767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49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chool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523880" y="6019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23880" y="40384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523880" y="4724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880" y="54100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23880" y="3429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352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, Inc., a subsidiary of DeVry Inc. (NYSE:D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office in OKC (Bricktow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was founded by educators who have a passion for student success. Since its inception in 200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has implemented online learning programs in schools and districts across 30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, the company received regional accreditation as a diploma-granting institution from the North Central Association Commission on Accreditation (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ational accreditation from the Commission on International and Trans-Regional Accreditation (CITA). We gained these accreditations in order to validate our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 Academics, Inc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ine learning simplifi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Oklahoma Dept. of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full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6858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720" y="525780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000,000 (Initial start u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500,000 (Annual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5053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Revenue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klahom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00 per-stud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verag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 945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,252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ention Rates / Success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urses 88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in courses 74% (6,5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ctive 62% (5,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udents 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nrolled courses 2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that are active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active courses on track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enrolled courses completed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 2.00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E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OI (End of Instruction)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OKC public schools (must be a OKC high school drop out or ask for an open trans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high school diploma will be the same as tradition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year book picture, attend prom, walk at graduation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8862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0010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58:34Z</dcterms:created>
  <dc:creator>Andre Washington</dc:creator>
  <dc:description/>
  <dc:language>en-US</dc:language>
  <cp:lastModifiedBy>Andre Washington</cp:lastModifiedBy>
  <dcterms:modified xsi:type="dcterms:W3CDTF">2008-10-18T07:49:31Z</dcterms:modified>
  <cp:revision>6</cp:revision>
  <dc:subject/>
  <dc:title>Slide 1</dc:title>
</cp:coreProperties>
</file>