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DD7-5C9F-494B-8BAC-9C56CDBC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8E2-E9C4-467C-B1B6-B14DC2A8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FFA-AC37-40C1-9909-166D87DE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A41-0295-48B0-8F22-CB082844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799-ADCB-4DFE-BE85-D91F6CCB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E541-986B-442F-B2A4-675D4D89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841-1BD8-48EE-B34E-62799DD9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18C-BBB8-45D6-B838-C21BF5E2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381-BB00-4849-8B7E-F08B0C2C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B7AA-A4B8-4892-93FE-1CC8237B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C9EA-2B63-4BCE-AD1B-575DFCD1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31C-8B0B-469A-B423-2C4D2BF3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4B7C-8492-446D-8BCB-314524EB8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Academics, Inc., a subsidiary of DeVry Inc. (NYSE:D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e office in OKC (Bricktow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Revenue)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500 per-stud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verag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eek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ourses 889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enrolled in courses 74% (6,5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active 62% (5,5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lahom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eek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tudents 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enrolled courses 29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enrolled courses that are active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active courses on track 5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enrolled courses completed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A 2.00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EP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EOI (End of Instruction) 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high school diploma will be the same as traditiona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take year book picture, attend prom, walk at graduation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6:58:34Z</dcterms:created>
  <dc:creator>Andre Washington</dc:creator>
  <dc:description/>
  <dc:language>en-US</dc:language>
  <cp:lastModifiedBy>Andre Washington</cp:lastModifiedBy>
  <dcterms:modified xsi:type="dcterms:W3CDTF">2008-10-18T07:49:31Z</dcterms:modified>
  <cp:revision>6</cp:revision>
  <dc:subject/>
  <dc:title>Slide 1</dc:title>
</cp:coreProperties>
</file>