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0B00-1B92-4E56-9162-86FF656D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0C36-B98C-4C8F-B439-689573FF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A603-509E-44C1-BBD6-A426FE3A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A028-BCD6-4701-8E61-FF0CA44B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6784-F69C-432A-8C36-38AC4BD7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5689-82F0-4DAC-AD13-4A930CC8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9334-DD46-40F7-A73F-936A103E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592A-77AD-4C76-A286-516D2384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AE53-57B3-4284-80B8-A5B2F0AB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AAAB-D0E8-415E-8DCB-C8A5E7AB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B90A-A845-4114-ADEA-AD3389BA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4E0A-3412-4B30-B8B0-ED594860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D8BB-1558-47F8-AC4B-7B8A429E9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of Oklahoma Virtual High School Syste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1981080" y="914400"/>
            <a:ext cx="4648320" cy="838080"/>
          </a:xfrm>
          <a:custGeom>
            <a:avLst/>
            <a:gdLst>
              <a:gd name="textAreaLeft" fmla="*/ 54000 w 4648320"/>
              <a:gd name="textAreaRight" fmla="*/ 4594320 w 4648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19760" h="21600">
                <a:moveTo>
                  <a:pt x="0" y="0"/>
                </a:moveTo>
                <a:lnTo>
                  <a:pt x="119760" y="0"/>
                </a:lnTo>
                <a:lnTo>
                  <a:pt x="119760" y="21600"/>
                </a:lnTo>
                <a:lnTo>
                  <a:pt x="0" y="21600"/>
                </a:lnTo>
                <a:close/>
              </a:path>
              <a:path fill="lightenLess" w="119760" h="21600">
                <a:moveTo>
                  <a:pt x="0" y="0"/>
                </a:moveTo>
                <a:lnTo>
                  <a:pt x="119760" y="0"/>
                </a:lnTo>
                <a:lnTo>
                  <a:pt x="118360" y="1400"/>
                </a:lnTo>
                <a:lnTo>
                  <a:pt x="1400" y="1400"/>
                </a:lnTo>
                <a:close/>
              </a:path>
              <a:path fill="darken" w="119760" h="21600">
                <a:moveTo>
                  <a:pt x="119760" y="0"/>
                </a:moveTo>
                <a:lnTo>
                  <a:pt x="119760" y="21600"/>
                </a:lnTo>
                <a:lnTo>
                  <a:pt x="118360" y="20200"/>
                </a:lnTo>
                <a:lnTo>
                  <a:pt x="118360" y="1400"/>
                </a:lnTo>
                <a:close/>
              </a:path>
              <a:path fill="darkenLess" w="119760" h="21600">
                <a:moveTo>
                  <a:pt x="119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360" y="20200"/>
                </a:lnTo>
                <a:close/>
              </a:path>
              <a:path fill="lighten" w="119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Academics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2057400"/>
            <a:ext cx="3657600" cy="685800"/>
          </a:xfrm>
          <a:custGeom>
            <a:avLst/>
            <a:gdLst>
              <a:gd name="textAreaLeft" fmla="*/ 44280 w 3657600"/>
              <a:gd name="textAreaRight" fmla="*/ 3613320 w 3657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5151" h="21600">
                <a:moveTo>
                  <a:pt x="0" y="0"/>
                </a:moveTo>
                <a:lnTo>
                  <a:pt x="115151" y="0"/>
                </a:lnTo>
                <a:lnTo>
                  <a:pt x="115151" y="21600"/>
                </a:lnTo>
                <a:lnTo>
                  <a:pt x="0" y="21600"/>
                </a:lnTo>
                <a:close/>
              </a:path>
              <a:path fill="lightenLess" w="115151" h="21600">
                <a:moveTo>
                  <a:pt x="0" y="0"/>
                </a:moveTo>
                <a:lnTo>
                  <a:pt x="115151" y="0"/>
                </a:lnTo>
                <a:lnTo>
                  <a:pt x="113751" y="1400"/>
                </a:lnTo>
                <a:lnTo>
                  <a:pt x="1400" y="1400"/>
                </a:lnTo>
                <a:close/>
              </a:path>
              <a:path fill="darken" w="115151" h="21600">
                <a:moveTo>
                  <a:pt x="115151" y="0"/>
                </a:moveTo>
                <a:lnTo>
                  <a:pt x="115151" y="21600"/>
                </a:lnTo>
                <a:lnTo>
                  <a:pt x="113751" y="20200"/>
                </a:lnTo>
                <a:lnTo>
                  <a:pt x="113751" y="1400"/>
                </a:lnTo>
                <a:close/>
              </a:path>
              <a:path fill="darkenLess" w="115151" h="21600">
                <a:moveTo>
                  <a:pt x="115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51" y="20200"/>
                </a:lnTo>
                <a:close/>
              </a:path>
              <a:path fill="lighten" w="115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High 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320040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klahoma 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38098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m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4956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ts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1814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58672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h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2096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School Distric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04560" y="259092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2590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17524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43200" y="213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486400" y="2133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34120" y="28954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62720" y="28191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800600" y="3962520"/>
            <a:ext cx="1447920" cy="1328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705720" y="434340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 High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9-12 gra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248520" y="4724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276720" y="3505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27672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35053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733560" y="46483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388620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of Instruction Ex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038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276720" y="4724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276720" y="5410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304920" y="4114800"/>
            <a:ext cx="874440" cy="847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23880" y="327672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294920" y="4648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3124080"/>
            <a:ext cx="838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chool Dipl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3733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523880" y="601992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523880" y="40384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523880" y="47242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523880" y="54100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523880" y="342900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3124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peed Int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791320" y="3352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Academics, Inc., a subsidiary of DeVry Inc. (NYSE:D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orate office in OKC (Bricktow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any was founded by educators who have a passion for student success. Since its inception in 200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Academics has implemented online learning programs in schools and districts across 30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2, the company received regional accreditation as a diploma-granting institution from the North Central Association Commission on Accreditation (N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national accreditation from the Commission on International and Trans-Regional Accreditation (CITA). We gained these accreditations in order to validate our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772400" y="57913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is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of Oklahoma Dept. of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Academ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f full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685800"/>
            <a:ext cx="0" cy="5105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91520" y="685800"/>
            <a:ext cx="0" cy="5105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7848720" y="57913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rastructure </a:t>
            </a:r>
            <a:br>
              <a:rPr sz="40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c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,000,000 (Initial start u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500,000 (Annuall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33526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3505320"/>
            <a:ext cx="82296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Revenue)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klahom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500 per-stud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verag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@ 945 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4,252,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tention Rates / Success 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week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courses 889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enrolled in courses 74% (6,58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active 62% (5,5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lahom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week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Students 9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enrolled courses 29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of enrolled courses that are active 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of active courses on track 5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of enrolled courses completed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8077320" y="59436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0800" y="3844"/>
                </a:moveTo>
                <a:lnTo>
                  <a:pt x="13376" y="6455"/>
                </a:ln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lnTo>
                  <a:pt x="17763" y="10807"/>
                </a:lnTo>
                <a:lnTo>
                  <a:pt x="16109" y="10807"/>
                </a:lnTo>
                <a:lnTo>
                  <a:pt x="16109" y="17997"/>
                </a:lnTo>
                <a:lnTo>
                  <a:pt x="5491" y="17997"/>
                </a:lnTo>
                <a:lnTo>
                  <a:pt x="5491" y="10807"/>
                </a:lnTo>
                <a:lnTo>
                  <a:pt x="3837" y="10807"/>
                </a:lnTo>
                <a:close/>
              </a:path>
              <a:path fill="darkenLess" w="21600" h="21615">
                <a:moveTo>
                  <a:pt x="13376" y="6455"/>
                </a:move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close/>
              </a:path>
              <a:path fill="darkenLess" w="21600" h="21615">
                <a:moveTo>
                  <a:pt x="9877" y="14306"/>
                </a:moveTo>
                <a:lnTo>
                  <a:pt x="11723" y="14306"/>
                </a:lnTo>
                <a:lnTo>
                  <a:pt x="11723" y="17997"/>
                </a:lnTo>
                <a:lnTo>
                  <a:pt x="16109" y="17997"/>
                </a:lnTo>
                <a:lnTo>
                  <a:pt x="16109" y="10807"/>
                </a:lnTo>
                <a:lnTo>
                  <a:pt x="5491" y="10807"/>
                </a:lnTo>
                <a:lnTo>
                  <a:pt x="5491" y="17997"/>
                </a:lnTo>
                <a:lnTo>
                  <a:pt x="9877" y="1799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ig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A 2.00 (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EP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EOI (End of Instruction) s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n OKC public schools (must be a OKC high school drop out or ask for an open transf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high school diploma will be the same as traditiona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take year book picture, attend prom, walk at graduation etc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8862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80010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6:58:34Z</dcterms:created>
  <dc:creator>Andre Washington</dc:creator>
  <dc:description/>
  <dc:language>en-US</dc:language>
  <cp:lastModifiedBy>Andre Washington</cp:lastModifiedBy>
  <dcterms:modified xsi:type="dcterms:W3CDTF">2008-10-18T07:49:31Z</dcterms:modified>
  <cp:revision>6</cp:revision>
  <dc:subject/>
  <dc:title>Slide 1</dc:title>
</cp:coreProperties>
</file>