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0366-EBDC-430E-AAC2-CD0F66F2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C41-616A-4598-8A1B-89D95E75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3CA-AF1D-45F3-871F-FB8ABABC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230-5698-44AE-A277-758E844E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DED-A28F-48ED-A8B8-5CAF539E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1E8-9E5F-46C0-AD9B-15CA6F57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C2C-82FC-49C9-A138-6573A96E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1B0-EE94-43DD-8F7F-F9451BB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77B-C5A5-469A-A237-B8CC639B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EF6-0EDB-42FF-BC3E-92FAEABD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B82-366D-423C-BE6A-49C1E20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B7B-AC39-47AD-A8F9-B9F0D06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EF3-644F-4C40-9D36-B783727F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BAA4-F649-4545-B8A3-CB4844C6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instructor’s role requires a paradigm shift in perception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structional time and 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irtual managem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ways of engaging students through virtual commun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sed on results of a systematic literature re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evaluation an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upport and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Educ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(3), p. 145-1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 retrieved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more to do with whether this is a good way fo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eac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la Specketer, Principal of Minnesota Virtual Academy (full-time virtual started in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1079280"/>
            <a:ext cx="647676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are online schools here to stay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believe it - get over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 you see as the challe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905120" cy="234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42703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diverse needs and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– truly customer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rticipation, engagement,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use of tools, technologies,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education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23:20Z</dcterms:created>
  <dc:creator>Kisling</dc:creator>
  <dc:description/>
  <dc:language>en-US</dc:language>
  <cp:lastModifiedBy>Kisling</cp:lastModifiedBy>
  <dcterms:modified xsi:type="dcterms:W3CDTF">2008-10-17T02:38:43Z</dcterms:modified>
  <cp:revision>40</cp:revision>
  <dc:subject/>
  <dc:title>Slide 1</dc:title>
</cp:coreProperties>
</file>