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3278-3C6E-4160-B5CE-08710A069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762120" y="6094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odyear in 2001 identified 9 instructor roles!  Content facilitator, technologist, designer, manager/administrator, process facilitator, advisor/counselor, assessor, researc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s approach to online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nselors, enrollment process, ori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tructional desig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bject matter exp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line assistants (assistance), tech, bookstore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mpus Technology, October 2008 “Just-in-Time Support identifies 8 best practices for providing support to online facul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titutionalize the basics – provide orientation &amp; FAQ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loaded Course Templ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ke sure faculty aren’t first responders for non-content related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ust-in-Time Support  in development sta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ntoring from experienced online instruc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nk through pedagogy behind the technology tools-wikis, blogs, (why, how, wh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elop the above systems support (instructional tea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gin a COP for facul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INT OUT CHALLENGE AREAS – discussion point – what do you see as challenge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Quality Indicators of Distance Education Identified in the 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sults of a systematic literature review of 160 articles and twelve boo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haney 2006) as quoted in Chaney, B.H., et al. (2007). Development of an instrument to assess student opinions of the quality of distance education course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American Journal of Distance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21(3), p. 145-16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ddition, a study completed by the NEA and Blackboard Inc., (Institute for Higher Education Policy study commissioned by NEA and Blackboard) released in 2000, found 24 quality benchmarks for success in internet-based distance education.  Shimp, in an unpublished dissertation completed in December 2007, reviewed 278 articles published in 4 journals from 2000-2006 and found the same benchmarks and 2 additional benchmar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-orientation to distance education courses or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er interaction with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s of Rubric Chico State Rubric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Learner Support &amp;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Online Organization and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Instructional Design/Deli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Evaluation of Student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Innovative Teaching w/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 Use of Student Feed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lso an Instructional Design Tips for Online Learning developed by Joan Van Duzer, Humboldt State University) in conjunction with the Chico State Rub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what point will this no longer just be an alternat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C242-E5A4-4D33-A51E-20224A057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3AE7-E806-4EFC-BC4D-16EFBE54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66EC-E698-4A2A-A0CB-6030E7822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C7C1-3137-46BE-9CB0-E4D844F67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2E6C-A408-4A23-ACB9-A0F2BCDA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0604-4BC7-4155-808B-D0E90758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2986-B869-4093-BFBC-450330D0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F466-B159-4C2E-834F-8A5BD211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9BF0-4F46-468C-BC50-D19AF2AF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B4DB-395C-4A96-8BA0-C1B99F2D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1A0A-0338-44E6-871B-6D18F669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3179-663A-4896-956F-BF752772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0A34-E03C-4D30-8455-99DED1D61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istancelearn.about.com/od/virtualhighschools/a/OnlneHighQ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ulty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ine instructor’s role requires a paradigm shift in perceptions of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structional time and spa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virtual management techniqu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ways of engaging students through virtual communic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aston, 2003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-in-Ti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lity Indicator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ance Edu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Based on results of a systematic literature review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160 articles and twelve boo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8390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-teacher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pt feedback from i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evaluation and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analysis of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ed technology plan to ensure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itutional support and institution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 structure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lity Indicator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ance Education (cont’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839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learning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ct diverse ways 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ulty suppor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rationale for distance education that correlates to the mission of the i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priate tools an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ility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of guidelines for course development and review of instructional material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haney 2006) as quoted in Chaney, B.H., et al. (2007). Development of an instrument to assess student opinions of the quality of distance education courses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American Journal of Distance Edu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1(3), p. 145-16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ing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with a Ru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fornia State University, Chico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ser’s Guide to Online Cou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nea.org/technology/distanced/high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hoose an Online 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out retrieved from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istancelearn.about.com/od/virtualhighschools/a/OnlneHighQ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the bottom l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more to do with whether this is a good way for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each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udent to learn. To me, I look at online learning not as something that’s going to be the savior of education,” she said. “This is one alternative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ela Specketer, Principal of Minnesota Virtual Academy (full-time virtual started in 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1079280"/>
            <a:ext cx="6476760" cy="23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 are online schools here to stay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don’t believe it - get over yourself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3580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do you see as the challen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629400" y="1143000"/>
            <a:ext cx="1905120" cy="2349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9480" y="427032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 diverse needs and learning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Ps – truly customer foc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participation, engagement, 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use of tools, technologies,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lahoma education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22860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Forec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23:23:20Z</dcterms:created>
  <dc:creator>Kisling</dc:creator>
  <dc:description/>
  <dc:language>en-US</dc:language>
  <cp:lastModifiedBy>Kisling</cp:lastModifiedBy>
  <dcterms:modified xsi:type="dcterms:W3CDTF">2008-10-17T02:38:43Z</dcterms:modified>
  <cp:revision>40</cp:revision>
  <dc:subject/>
  <dc:title>Slide 1</dc:title>
</cp:coreProperties>
</file>